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5DF-5E75-43F7-A18C-9EAD0CBD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FFE-4769-45E0-B62F-056C0A94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02880" y="4343400"/>
            <a:ext cx="504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EAF-96F8-432F-8BEA-D1CB3C09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140-3BAF-4749-81B0-AE63EB1F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06B-5844-4966-814C-64F7EE38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02880" y="4343400"/>
            <a:ext cx="504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9DB-4766-42F7-A150-8CA1E8FF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853-9856-4638-9C14-6190E88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1E4-B4AF-451D-98D4-8B0FFC9F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0F7-9641-4934-A1C9-46DFC65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3EE2-539A-4374-A0DF-8DDB5AB9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6379-9402-4D34-AE4C-C869907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18C3-724A-422B-AC2D-6EC1B2E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A76A-974F-4A6F-87D6-684C336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4BC-40CF-4AA2-B9B8-C24F81D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54A6-0513-42F4-85AC-DF84C90A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82B-8B09-4652-BFF1-470EABB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ADA-347F-412B-B31E-34CB8DF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3FD-6A2F-4CEB-B2EC-4BF2B9D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CEE-6C22-4E05-A708-8E7427C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ACE-6DFE-4259-A312-E3BDE1FE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C46D-EA34-479C-A3BC-0C7AC65C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AB5-8DB8-4A46-B6FD-3004C9DA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954-4E09-4339-AF5A-B4C2A37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90A-EC8C-406E-8F07-32DA31EC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057-BA8B-47C6-84F2-FC316CA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F89-2F80-47A4-9BEA-B702566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5F6-E995-4776-BBFB-DE6C826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514-947F-4433-B925-F061956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78B-F011-45AB-B551-8905663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FAA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MKT VARE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FACTU COMUNICAÇÃO 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68B-9B42-4F8A-8457-55C6312D38A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fa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rketing de vare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904-7AAB-4407-9E4C-8EA824B3BD2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9160" y="1295280"/>
            <a:ext cx="8872560" cy="4614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VAREJ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83B-F01C-4E64-8C38-8448FEE53A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TENDÊNCIAS DO VARE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CONSOLIDAÇÃO DO VAR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sucesso de grandes lojas de desconto de mercadorias em geral, varejistas de especialidades e lojas de descontos de especialidad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pt-BR" sz="1600" spc="-1" strike="noStrike">
                <a:solidFill>
                  <a:srgbClr val="ffffff"/>
                </a:solidFill>
                <a:latin typeface="Tahoma"/>
              </a:rPr>
              <a:t>Wal Mart, Kmart, etc. correspondem perto de 60% do total de negócios de US$ 90 bi - segmento de desconto de mercadoria geral. Previsão que no ano 2.000 restarão somente 3 ou 4 redes nesse mercad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o aproveitamento das economias de escala e da especialização poderá baixar os custos operacionais, repassando aos consumidores preços mais baix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menor número de concorrentes, controlando o mercado, aumentando os preços, elevando os lucr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os varejistas deverão monitorar e atender aos desejos dos consumidores para que possam prosper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os consumidores são mais informados, mais experientes e mais exigen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os consumidores que ditarão a natureza das operações varejistas no fut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10A-DAA8-4AE8-B491-73DD70A9E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2467080"/>
            <a:ext cx="2271960" cy="1647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9966"/>
                </a:solidFill>
                <a:latin typeface="Tahoma"/>
              </a:rPr>
              <a:t>OS PADRÕES GERAIS GLOBAIS E AS PRÁTICAS DE FAZER NEGÓCIOS SÃO TÃO DIFERENTES ENTRE SI QUANTO OS PAÍSES EM  QUE OCORR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Por exemplo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ITÁ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predominam                                                              mais leis q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mercadinhos de bairro”                                           protegem 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sociedade mais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   pequenas loj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bairrista,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Tahoma"/>
              </a:rPr>
              <a:t>A expansão dos supermercados torna-se um processo lon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EU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lojas mais amplas, com estacionamento      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amplo, clientes fazem suas compras de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uma só vez. Supermercados amplos bem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suprido de estoques, preços competitivos 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      e economia de escal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VAREJO: PERSPECTIVA GLO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1690560" cy="20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69F-ED0D-436F-9177-0267C4177C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VAREJO: PERSPECTIVA GLO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66"/>
                </a:solidFill>
                <a:latin typeface="Tahoma"/>
              </a:rPr>
              <a:t>PARA SE DESENVOLVER ESTRATÉGIAS DE VAREJO, É FUNDAMENTAL QUE SE COMPREE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O E PORQUE OS VAREJISTAS CRIAM UTILIDADES PARA SATISFAZER SEUS CL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IS SÃO AS FORMAS QUE DETERMINAM A NATUREZA DA COMPETIÇÃO E DA COOPERAÇÃO ENTRE OS VAREJIS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ahoma"/>
              </a:rPr>
              <a:t>É necessário compreender as forças econômicas, legais, sociais e culturais que modelam as atividades varejistas, bem como o comportamento do consumi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52400" cy="96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752400" cy="96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238-D527-4FB1-87BF-6FA86290B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Tahoma"/>
              </a:rPr>
              <a:t>VAREJO NO PRÓXIMO MILÊNI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pessoas compram aquilo que elas querem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lientes estarão diminuindo sua presença física 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arej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tecnologia não pode ser ignor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sejo de comprar e não necessidad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ticipação dentro do gasto do cliente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share of customer spending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levância em todos os aspectos no ato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04560" cy="34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520" y="2705040"/>
            <a:ext cx="304560" cy="343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304560" cy="34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304560" cy="34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33520" y="4648320"/>
            <a:ext cx="304560" cy="34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33520" y="5600880"/>
            <a:ext cx="304560" cy="3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7B7-E4D9-40DF-AEF5-7BC6FFCD50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propriedade de estabelec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tipo de negócio (mercadoria negoci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tamanho do estabelec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elo grau de integração ver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método de contato de consumi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tipo de localiz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 Narrow"/>
              </a:rPr>
              <a:t>Por tipo de serviços pr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ASES PARA CLASSIFICAÇÃO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O VARE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DE1-411D-4924-8885-E8D78BB1B7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VAREJO SEM LO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1160" y="2743200"/>
            <a:ext cx="2628720" cy="2571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35480" y="2349360"/>
            <a:ext cx="5556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Rápido cresc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Hoje representa mais de 12%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total das compras dos consumi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Até o ano 2.000 a estimativa é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represente até 1/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5920" y="2616120"/>
            <a:ext cx="2844720" cy="276876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015920" y="2565000"/>
            <a:ext cx="2921040" cy="279396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64B-CD6C-408F-83EB-D826BA78C47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ahoma"/>
              </a:rPr>
              <a:t>VENDA DIRE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Venda de porta a porta, reuniões domiciliares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Pioneiras: Electrolux (aspiradores de pó), Fuller Brush Compan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(escovas, vassouras etc), World Book (enciclopédias)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Atualmente sensível melhora. Avon, Tupperware entre outr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Variante da venda direta - marketing de multinível (red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Processo caro - treinamentos, comissões, recrutam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ahoma"/>
              </a:rPr>
              <a:t>MARKETIN</a:t>
            </a:r>
            <a:r>
              <a:rPr b="1" lang="pt-BR" sz="1600" spc="-1" strike="noStrike" u="sng">
                <a:solidFill>
                  <a:srgbClr val="ffffff"/>
                </a:solidFill>
                <a:uFillTx/>
                <a:latin typeface="Tahoma"/>
              </a:rPr>
              <a:t>G DIRE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Venda por correio, telemarketing, marketing de resposta direta vi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televisão e compra eletrônic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ahoma"/>
              </a:rPr>
              <a:t>VENDA AU</a:t>
            </a:r>
            <a:r>
              <a:rPr b="1" lang="pt-BR" sz="1600" spc="-1" strike="noStrike" u="sng">
                <a:solidFill>
                  <a:srgbClr val="ffffff"/>
                </a:solidFill>
                <a:uFillTx/>
                <a:latin typeface="Tahoma"/>
              </a:rPr>
              <a:t>TOMÁT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Vantagens oferecidas aos consumidores: venda 24 horas, auto-serviç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e ausência de manipulaçã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spcBef>
                <a:spcPts val="400"/>
              </a:spcBef>
              <a:buClr>
                <a:srgbClr val="ff99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Canal relativamente caro, preços das mercadorias são de 15 a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superiores (reposição contínua, quebras frequentes das máquinas 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6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alto índice de furto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28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INCIPAIS TIPOS D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VAREJO SEM LO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779-1B7B-44C4-89D5-EBAFDF6A23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CISÃO DO MERCADO AL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69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70200" y="3060720"/>
            <a:ext cx="1803600" cy="1498680"/>
          </a:xfrm>
          <a:prstGeom prst="ellipse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56200" y="4280040"/>
            <a:ext cx="1803600" cy="149832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70200" y="4965840"/>
            <a:ext cx="1803600" cy="149832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MO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ublici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l. públicas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4203720"/>
            <a:ext cx="1803240" cy="149868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V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calizaçã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orário fun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1920" y="2222640"/>
            <a:ext cx="1803240" cy="149832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EÇ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ark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eço lin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scon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2520" y="2298600"/>
            <a:ext cx="1803240" cy="149868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rviços consum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da pesso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0200" y="1155600"/>
            <a:ext cx="1803600" cy="1498680"/>
          </a:xfrm>
          <a:prstGeom prst="ellipse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fundi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72000" y="2653920"/>
            <a:ext cx="0" cy="40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2160" y="266688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5784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965320" y="3193920"/>
            <a:ext cx="77472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251320" y="4336920"/>
            <a:ext cx="77472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89000" y="4197240"/>
            <a:ext cx="92700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416560" y="3270240"/>
            <a:ext cx="673200" cy="241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DA8-F0D8-4F9C-B7DE-BEF24F808F2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7080" y="4043520"/>
            <a:ext cx="2291040" cy="2280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305080" cy="269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8080" y="9907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15 TENDÊNCIAS DO MUNDO AMANH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 era da Comunicação Instantâ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Mundo sem fronteiras econô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Transnacionalismo (Globaliz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Nova sociedade de 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Importância do pequeno na organ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6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Crescimento do lazer e atividades domé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7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Mulheres na lid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3C5-ACFA-4180-A51F-3F032CE2850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305080" cy="26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7080" y="4043520"/>
            <a:ext cx="2291040" cy="2280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106668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15 TENDÊNCIAS DO MUNDO AMANH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8.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écada do cérebro (aprender e criativida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9.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cionalismo 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0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umento de pessoas com experiências infeli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1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velhecimento da população 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2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ortância do “faça algo por você mesm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3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riunfo do indivíd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4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mpresas cooperativ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15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dança da estrutura de trabal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(Alvin Tofler e Peter Druck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C69-3583-4964-A9E4-E2D2194199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No Brasil em 97 estimou-se que o varejo brasileiro respondeu por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quase 15% do PIB. Nos EUA, responde por quase 35% do PIB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Nos principais mercados europeus responde por quase 20%.</a:t>
            </a:r>
            <a:r>
              <a:rPr b="0" lang="pt-BR" sz="1600" spc="-1" strike="noStrike">
                <a:solidFill>
                  <a:srgbClr val="ff9966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9966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No Brasil somente os super e hipermercados movimentam cerca de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US$ 46 bilhões, correspondendo a 8% do PIB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Nos EUA em 94 os shopping centers/aglomerados comerciais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somavam cerca de 40 mil unidades e movimentaram US$ 800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bilhões, representando 55% das vendas do comércio varejist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No Brasil existem cerca de 800 shoppings em operação,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apenas 128 são filiados à ABRASCE (Assoc. Brasileira de Shopping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Centers). Os empreendimentos ligados à essa associação faturaram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cerca de R$ 10 bilhões em 95 e em 96 R$ 12 bilhões - cerca de 18%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do faturamento do comércio varejist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               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Este segmento empregou 218 mil pessoas em suas 21.150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lojas (números considerados dos </a:t>
            </a:r>
            <a:r>
              <a:rPr b="0" lang="pt-BR" sz="1600" spc="-1" strike="noStrike">
                <a:solidFill>
                  <a:srgbClr val="ff9966"/>
                </a:solidFill>
                <a:latin typeface="Arial Black"/>
              </a:rPr>
              <a:t>filiados</a:t>
            </a:r>
            <a:r>
              <a:rPr b="0" lang="pt-BR" sz="1600" spc="-1" strike="noStrike">
                <a:solidFill>
                  <a:srgbClr val="ff9966"/>
                </a:solidFill>
                <a:latin typeface="Arial"/>
              </a:rPr>
              <a:t> à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 ABRASCE, no geral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esses valores devem se expressar em números várias vezes 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9966"/>
                </a:solidFill>
                <a:latin typeface="Arial"/>
              </a:rPr>
              <a:t>maiore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4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MARKETING DE VAREJ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019160"/>
            <a:ext cx="557280" cy="885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00160" y="1981080"/>
            <a:ext cx="576360" cy="838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576360" cy="84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38320" y="4238640"/>
            <a:ext cx="614160" cy="79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066680" y="5514840"/>
            <a:ext cx="681120" cy="7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068-478B-4723-AD7C-4F76AEDBDD9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400800" y="4876920"/>
            <a:ext cx="1297080" cy="1084320"/>
          </a:xfrm>
          <a:custGeom>
            <a:avLst/>
            <a:gdLst/>
            <a:ahLst/>
            <a:rect l="l" t="t" r="r" b="b"/>
            <a:pathLst>
              <a:path w="817" h="683">
                <a:moveTo>
                  <a:pt x="0" y="142"/>
                </a:moveTo>
                <a:lnTo>
                  <a:pt x="0" y="0"/>
                </a:lnTo>
                <a:lnTo>
                  <a:pt x="815" y="0"/>
                </a:lnTo>
                <a:lnTo>
                  <a:pt x="816" y="545"/>
                </a:lnTo>
                <a:lnTo>
                  <a:pt x="745" y="545"/>
                </a:lnTo>
                <a:lnTo>
                  <a:pt x="742" y="549"/>
                </a:lnTo>
                <a:lnTo>
                  <a:pt x="740" y="556"/>
                </a:lnTo>
                <a:lnTo>
                  <a:pt x="740" y="562"/>
                </a:lnTo>
                <a:lnTo>
                  <a:pt x="741" y="568"/>
                </a:lnTo>
                <a:lnTo>
                  <a:pt x="744" y="577"/>
                </a:lnTo>
                <a:lnTo>
                  <a:pt x="747" y="588"/>
                </a:lnTo>
                <a:lnTo>
                  <a:pt x="749" y="595"/>
                </a:lnTo>
                <a:lnTo>
                  <a:pt x="752" y="604"/>
                </a:lnTo>
                <a:lnTo>
                  <a:pt x="753" y="613"/>
                </a:lnTo>
                <a:lnTo>
                  <a:pt x="753" y="621"/>
                </a:lnTo>
                <a:lnTo>
                  <a:pt x="752" y="629"/>
                </a:lnTo>
                <a:lnTo>
                  <a:pt x="749" y="638"/>
                </a:lnTo>
                <a:lnTo>
                  <a:pt x="746" y="646"/>
                </a:lnTo>
                <a:lnTo>
                  <a:pt x="740" y="652"/>
                </a:lnTo>
                <a:lnTo>
                  <a:pt x="732" y="659"/>
                </a:lnTo>
                <a:lnTo>
                  <a:pt x="725" y="664"/>
                </a:lnTo>
                <a:lnTo>
                  <a:pt x="718" y="670"/>
                </a:lnTo>
                <a:lnTo>
                  <a:pt x="709" y="674"/>
                </a:lnTo>
                <a:lnTo>
                  <a:pt x="699" y="677"/>
                </a:lnTo>
                <a:lnTo>
                  <a:pt x="687" y="680"/>
                </a:lnTo>
                <a:lnTo>
                  <a:pt x="676" y="681"/>
                </a:lnTo>
                <a:lnTo>
                  <a:pt x="666" y="682"/>
                </a:lnTo>
                <a:lnTo>
                  <a:pt x="655" y="682"/>
                </a:lnTo>
                <a:lnTo>
                  <a:pt x="645" y="681"/>
                </a:lnTo>
                <a:lnTo>
                  <a:pt x="638" y="680"/>
                </a:lnTo>
                <a:lnTo>
                  <a:pt x="628" y="678"/>
                </a:lnTo>
                <a:lnTo>
                  <a:pt x="619" y="675"/>
                </a:lnTo>
                <a:lnTo>
                  <a:pt x="612" y="672"/>
                </a:lnTo>
                <a:lnTo>
                  <a:pt x="604" y="667"/>
                </a:lnTo>
                <a:lnTo>
                  <a:pt x="597" y="661"/>
                </a:lnTo>
                <a:lnTo>
                  <a:pt x="590" y="654"/>
                </a:lnTo>
                <a:lnTo>
                  <a:pt x="584" y="647"/>
                </a:lnTo>
                <a:lnTo>
                  <a:pt x="579" y="640"/>
                </a:lnTo>
                <a:lnTo>
                  <a:pt x="575" y="631"/>
                </a:lnTo>
                <a:lnTo>
                  <a:pt x="573" y="621"/>
                </a:lnTo>
                <a:lnTo>
                  <a:pt x="573" y="611"/>
                </a:lnTo>
                <a:lnTo>
                  <a:pt x="575" y="601"/>
                </a:lnTo>
                <a:lnTo>
                  <a:pt x="578" y="591"/>
                </a:lnTo>
                <a:lnTo>
                  <a:pt x="581" y="582"/>
                </a:lnTo>
                <a:lnTo>
                  <a:pt x="585" y="571"/>
                </a:lnTo>
                <a:lnTo>
                  <a:pt x="586" y="562"/>
                </a:lnTo>
                <a:lnTo>
                  <a:pt x="586" y="557"/>
                </a:lnTo>
                <a:lnTo>
                  <a:pt x="585" y="553"/>
                </a:lnTo>
                <a:lnTo>
                  <a:pt x="583" y="548"/>
                </a:lnTo>
                <a:lnTo>
                  <a:pt x="447" y="548"/>
                </a:lnTo>
                <a:lnTo>
                  <a:pt x="449" y="528"/>
                </a:lnTo>
                <a:lnTo>
                  <a:pt x="449" y="516"/>
                </a:lnTo>
                <a:lnTo>
                  <a:pt x="447" y="505"/>
                </a:lnTo>
                <a:lnTo>
                  <a:pt x="446" y="495"/>
                </a:lnTo>
                <a:lnTo>
                  <a:pt x="444" y="488"/>
                </a:lnTo>
                <a:lnTo>
                  <a:pt x="440" y="482"/>
                </a:lnTo>
                <a:lnTo>
                  <a:pt x="436" y="477"/>
                </a:lnTo>
                <a:lnTo>
                  <a:pt x="429" y="472"/>
                </a:lnTo>
                <a:lnTo>
                  <a:pt x="421" y="467"/>
                </a:lnTo>
                <a:lnTo>
                  <a:pt x="413" y="465"/>
                </a:lnTo>
                <a:lnTo>
                  <a:pt x="406" y="464"/>
                </a:lnTo>
                <a:lnTo>
                  <a:pt x="394" y="463"/>
                </a:lnTo>
                <a:lnTo>
                  <a:pt x="380" y="463"/>
                </a:lnTo>
                <a:lnTo>
                  <a:pt x="367" y="464"/>
                </a:lnTo>
                <a:lnTo>
                  <a:pt x="352" y="465"/>
                </a:lnTo>
                <a:lnTo>
                  <a:pt x="340" y="466"/>
                </a:lnTo>
                <a:lnTo>
                  <a:pt x="326" y="467"/>
                </a:lnTo>
                <a:lnTo>
                  <a:pt x="314" y="466"/>
                </a:lnTo>
                <a:lnTo>
                  <a:pt x="303" y="465"/>
                </a:lnTo>
                <a:lnTo>
                  <a:pt x="287" y="462"/>
                </a:lnTo>
                <a:lnTo>
                  <a:pt x="276" y="458"/>
                </a:lnTo>
                <a:lnTo>
                  <a:pt x="266" y="452"/>
                </a:lnTo>
                <a:lnTo>
                  <a:pt x="260" y="445"/>
                </a:lnTo>
                <a:lnTo>
                  <a:pt x="254" y="438"/>
                </a:lnTo>
                <a:lnTo>
                  <a:pt x="250" y="429"/>
                </a:lnTo>
                <a:lnTo>
                  <a:pt x="249" y="419"/>
                </a:lnTo>
                <a:lnTo>
                  <a:pt x="249" y="407"/>
                </a:lnTo>
                <a:lnTo>
                  <a:pt x="250" y="398"/>
                </a:lnTo>
                <a:lnTo>
                  <a:pt x="249" y="388"/>
                </a:lnTo>
                <a:lnTo>
                  <a:pt x="246" y="378"/>
                </a:lnTo>
                <a:lnTo>
                  <a:pt x="244" y="372"/>
                </a:lnTo>
                <a:lnTo>
                  <a:pt x="241" y="366"/>
                </a:lnTo>
                <a:lnTo>
                  <a:pt x="236" y="362"/>
                </a:lnTo>
                <a:lnTo>
                  <a:pt x="232" y="358"/>
                </a:lnTo>
                <a:lnTo>
                  <a:pt x="223" y="354"/>
                </a:lnTo>
                <a:lnTo>
                  <a:pt x="212" y="350"/>
                </a:lnTo>
                <a:lnTo>
                  <a:pt x="200" y="347"/>
                </a:lnTo>
                <a:lnTo>
                  <a:pt x="186" y="344"/>
                </a:lnTo>
                <a:lnTo>
                  <a:pt x="172" y="342"/>
                </a:lnTo>
                <a:lnTo>
                  <a:pt x="157" y="340"/>
                </a:lnTo>
                <a:lnTo>
                  <a:pt x="146" y="337"/>
                </a:lnTo>
                <a:lnTo>
                  <a:pt x="135" y="334"/>
                </a:lnTo>
                <a:lnTo>
                  <a:pt x="124" y="330"/>
                </a:lnTo>
                <a:lnTo>
                  <a:pt x="116" y="325"/>
                </a:lnTo>
                <a:lnTo>
                  <a:pt x="107" y="318"/>
                </a:lnTo>
                <a:lnTo>
                  <a:pt x="100" y="312"/>
                </a:lnTo>
                <a:lnTo>
                  <a:pt x="95" y="305"/>
                </a:lnTo>
                <a:lnTo>
                  <a:pt x="91" y="296"/>
                </a:lnTo>
                <a:lnTo>
                  <a:pt x="89" y="287"/>
                </a:lnTo>
                <a:lnTo>
                  <a:pt x="89" y="278"/>
                </a:lnTo>
                <a:lnTo>
                  <a:pt x="91" y="270"/>
                </a:lnTo>
                <a:lnTo>
                  <a:pt x="95" y="259"/>
                </a:lnTo>
                <a:lnTo>
                  <a:pt x="98" y="247"/>
                </a:lnTo>
                <a:lnTo>
                  <a:pt x="100" y="237"/>
                </a:lnTo>
                <a:lnTo>
                  <a:pt x="103" y="227"/>
                </a:lnTo>
                <a:lnTo>
                  <a:pt x="104" y="216"/>
                </a:lnTo>
                <a:lnTo>
                  <a:pt x="103" y="205"/>
                </a:lnTo>
                <a:lnTo>
                  <a:pt x="100" y="196"/>
                </a:lnTo>
                <a:lnTo>
                  <a:pt x="96" y="186"/>
                </a:lnTo>
                <a:lnTo>
                  <a:pt x="90" y="177"/>
                </a:lnTo>
                <a:lnTo>
                  <a:pt x="84" y="170"/>
                </a:lnTo>
                <a:lnTo>
                  <a:pt x="80" y="165"/>
                </a:lnTo>
                <a:lnTo>
                  <a:pt x="74" y="160"/>
                </a:lnTo>
                <a:lnTo>
                  <a:pt x="67" y="155"/>
                </a:lnTo>
                <a:lnTo>
                  <a:pt x="61" y="151"/>
                </a:lnTo>
                <a:lnTo>
                  <a:pt x="52" y="148"/>
                </a:lnTo>
                <a:lnTo>
                  <a:pt x="44" y="145"/>
                </a:lnTo>
                <a:lnTo>
                  <a:pt x="33" y="143"/>
                </a:lnTo>
                <a:lnTo>
                  <a:pt x="21" y="142"/>
                </a:lnTo>
                <a:lnTo>
                  <a:pt x="11" y="142"/>
                </a:lnTo>
                <a:lnTo>
                  <a:pt x="0" y="142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733920"/>
            <a:ext cx="1773360" cy="1752480"/>
          </a:xfrm>
          <a:custGeom>
            <a:avLst/>
            <a:gdLst/>
            <a:ahLst/>
            <a:rect l="l" t="t" r="r" b="b"/>
            <a:pathLst>
              <a:path w="1117" h="1104">
                <a:moveTo>
                  <a:pt x="425" y="230"/>
                </a:moveTo>
                <a:lnTo>
                  <a:pt x="436" y="218"/>
                </a:lnTo>
                <a:lnTo>
                  <a:pt x="444" y="206"/>
                </a:lnTo>
                <a:lnTo>
                  <a:pt x="448" y="193"/>
                </a:lnTo>
                <a:lnTo>
                  <a:pt x="448" y="176"/>
                </a:lnTo>
                <a:lnTo>
                  <a:pt x="443" y="156"/>
                </a:lnTo>
                <a:lnTo>
                  <a:pt x="439" y="140"/>
                </a:lnTo>
                <a:lnTo>
                  <a:pt x="433" y="119"/>
                </a:lnTo>
                <a:lnTo>
                  <a:pt x="430" y="97"/>
                </a:lnTo>
                <a:lnTo>
                  <a:pt x="433" y="84"/>
                </a:lnTo>
                <a:lnTo>
                  <a:pt x="437" y="67"/>
                </a:lnTo>
                <a:lnTo>
                  <a:pt x="446" y="50"/>
                </a:lnTo>
                <a:lnTo>
                  <a:pt x="458" y="34"/>
                </a:lnTo>
                <a:lnTo>
                  <a:pt x="474" y="20"/>
                </a:lnTo>
                <a:lnTo>
                  <a:pt x="488" y="10"/>
                </a:lnTo>
                <a:lnTo>
                  <a:pt x="507" y="4"/>
                </a:lnTo>
                <a:lnTo>
                  <a:pt x="529" y="1"/>
                </a:lnTo>
                <a:lnTo>
                  <a:pt x="554" y="0"/>
                </a:lnTo>
                <a:lnTo>
                  <a:pt x="587" y="0"/>
                </a:lnTo>
                <a:lnTo>
                  <a:pt x="613" y="2"/>
                </a:lnTo>
                <a:lnTo>
                  <a:pt x="628" y="7"/>
                </a:lnTo>
                <a:lnTo>
                  <a:pt x="639" y="13"/>
                </a:lnTo>
                <a:lnTo>
                  <a:pt x="651" y="20"/>
                </a:lnTo>
                <a:lnTo>
                  <a:pt x="663" y="31"/>
                </a:lnTo>
                <a:lnTo>
                  <a:pt x="674" y="45"/>
                </a:lnTo>
                <a:lnTo>
                  <a:pt x="683" y="58"/>
                </a:lnTo>
                <a:lnTo>
                  <a:pt x="688" y="69"/>
                </a:lnTo>
                <a:lnTo>
                  <a:pt x="691" y="88"/>
                </a:lnTo>
                <a:lnTo>
                  <a:pt x="691" y="104"/>
                </a:lnTo>
                <a:lnTo>
                  <a:pt x="688" y="121"/>
                </a:lnTo>
                <a:lnTo>
                  <a:pt x="685" y="133"/>
                </a:lnTo>
                <a:lnTo>
                  <a:pt x="681" y="154"/>
                </a:lnTo>
                <a:lnTo>
                  <a:pt x="674" y="175"/>
                </a:lnTo>
                <a:lnTo>
                  <a:pt x="672" y="188"/>
                </a:lnTo>
                <a:lnTo>
                  <a:pt x="676" y="201"/>
                </a:lnTo>
                <a:lnTo>
                  <a:pt x="681" y="211"/>
                </a:lnTo>
                <a:lnTo>
                  <a:pt x="691" y="223"/>
                </a:lnTo>
                <a:lnTo>
                  <a:pt x="705" y="234"/>
                </a:lnTo>
                <a:lnTo>
                  <a:pt x="718" y="242"/>
                </a:lnTo>
                <a:lnTo>
                  <a:pt x="737" y="249"/>
                </a:lnTo>
                <a:lnTo>
                  <a:pt x="756" y="254"/>
                </a:lnTo>
                <a:lnTo>
                  <a:pt x="774" y="258"/>
                </a:lnTo>
                <a:lnTo>
                  <a:pt x="794" y="260"/>
                </a:lnTo>
                <a:lnTo>
                  <a:pt x="814" y="265"/>
                </a:lnTo>
                <a:lnTo>
                  <a:pt x="829" y="270"/>
                </a:lnTo>
                <a:lnTo>
                  <a:pt x="841" y="275"/>
                </a:lnTo>
                <a:lnTo>
                  <a:pt x="851" y="281"/>
                </a:lnTo>
                <a:lnTo>
                  <a:pt x="858" y="288"/>
                </a:lnTo>
                <a:lnTo>
                  <a:pt x="863" y="297"/>
                </a:lnTo>
                <a:lnTo>
                  <a:pt x="867" y="307"/>
                </a:lnTo>
                <a:lnTo>
                  <a:pt x="869" y="317"/>
                </a:lnTo>
                <a:lnTo>
                  <a:pt x="871" y="325"/>
                </a:lnTo>
                <a:lnTo>
                  <a:pt x="871" y="337"/>
                </a:lnTo>
                <a:lnTo>
                  <a:pt x="869" y="350"/>
                </a:lnTo>
                <a:lnTo>
                  <a:pt x="869" y="361"/>
                </a:lnTo>
                <a:lnTo>
                  <a:pt x="872" y="373"/>
                </a:lnTo>
                <a:lnTo>
                  <a:pt x="878" y="384"/>
                </a:lnTo>
                <a:lnTo>
                  <a:pt x="885" y="394"/>
                </a:lnTo>
                <a:lnTo>
                  <a:pt x="893" y="401"/>
                </a:lnTo>
                <a:lnTo>
                  <a:pt x="905" y="408"/>
                </a:lnTo>
                <a:lnTo>
                  <a:pt x="916" y="413"/>
                </a:lnTo>
                <a:lnTo>
                  <a:pt x="933" y="416"/>
                </a:lnTo>
                <a:lnTo>
                  <a:pt x="948" y="418"/>
                </a:lnTo>
                <a:lnTo>
                  <a:pt x="962" y="419"/>
                </a:lnTo>
                <a:lnTo>
                  <a:pt x="978" y="418"/>
                </a:lnTo>
                <a:lnTo>
                  <a:pt x="997" y="416"/>
                </a:lnTo>
                <a:lnTo>
                  <a:pt x="1012" y="415"/>
                </a:lnTo>
                <a:lnTo>
                  <a:pt x="1026" y="414"/>
                </a:lnTo>
                <a:lnTo>
                  <a:pt x="1040" y="413"/>
                </a:lnTo>
                <a:lnTo>
                  <a:pt x="1057" y="414"/>
                </a:lnTo>
                <a:lnTo>
                  <a:pt x="1066" y="415"/>
                </a:lnTo>
                <a:lnTo>
                  <a:pt x="1076" y="418"/>
                </a:lnTo>
                <a:lnTo>
                  <a:pt x="1086" y="423"/>
                </a:lnTo>
                <a:lnTo>
                  <a:pt x="1096" y="430"/>
                </a:lnTo>
                <a:lnTo>
                  <a:pt x="1104" y="437"/>
                </a:lnTo>
                <a:lnTo>
                  <a:pt x="1110" y="449"/>
                </a:lnTo>
                <a:lnTo>
                  <a:pt x="1113" y="459"/>
                </a:lnTo>
                <a:lnTo>
                  <a:pt x="1114" y="472"/>
                </a:lnTo>
                <a:lnTo>
                  <a:pt x="1116" y="495"/>
                </a:lnTo>
                <a:lnTo>
                  <a:pt x="1115" y="521"/>
                </a:lnTo>
                <a:lnTo>
                  <a:pt x="1116" y="550"/>
                </a:lnTo>
                <a:lnTo>
                  <a:pt x="1113" y="582"/>
                </a:lnTo>
                <a:lnTo>
                  <a:pt x="1111" y="605"/>
                </a:lnTo>
                <a:lnTo>
                  <a:pt x="1108" y="623"/>
                </a:lnTo>
                <a:lnTo>
                  <a:pt x="1104" y="633"/>
                </a:lnTo>
                <a:lnTo>
                  <a:pt x="1097" y="643"/>
                </a:lnTo>
                <a:lnTo>
                  <a:pt x="1089" y="649"/>
                </a:lnTo>
                <a:lnTo>
                  <a:pt x="1079" y="655"/>
                </a:lnTo>
                <a:lnTo>
                  <a:pt x="1066" y="658"/>
                </a:lnTo>
                <a:lnTo>
                  <a:pt x="1056" y="660"/>
                </a:lnTo>
                <a:lnTo>
                  <a:pt x="1034" y="661"/>
                </a:lnTo>
                <a:lnTo>
                  <a:pt x="1015" y="660"/>
                </a:lnTo>
                <a:lnTo>
                  <a:pt x="1000" y="658"/>
                </a:lnTo>
                <a:lnTo>
                  <a:pt x="986" y="657"/>
                </a:lnTo>
                <a:lnTo>
                  <a:pt x="970" y="656"/>
                </a:lnTo>
                <a:lnTo>
                  <a:pt x="956" y="656"/>
                </a:lnTo>
                <a:lnTo>
                  <a:pt x="944" y="657"/>
                </a:lnTo>
                <a:lnTo>
                  <a:pt x="931" y="658"/>
                </a:lnTo>
                <a:lnTo>
                  <a:pt x="915" y="662"/>
                </a:lnTo>
                <a:lnTo>
                  <a:pt x="907" y="665"/>
                </a:lnTo>
                <a:lnTo>
                  <a:pt x="899" y="668"/>
                </a:lnTo>
                <a:lnTo>
                  <a:pt x="888" y="674"/>
                </a:lnTo>
                <a:lnTo>
                  <a:pt x="881" y="682"/>
                </a:lnTo>
                <a:lnTo>
                  <a:pt x="876" y="689"/>
                </a:lnTo>
                <a:lnTo>
                  <a:pt x="871" y="698"/>
                </a:lnTo>
                <a:lnTo>
                  <a:pt x="868" y="706"/>
                </a:lnTo>
                <a:lnTo>
                  <a:pt x="867" y="716"/>
                </a:lnTo>
                <a:lnTo>
                  <a:pt x="868" y="726"/>
                </a:lnTo>
                <a:lnTo>
                  <a:pt x="868" y="743"/>
                </a:lnTo>
                <a:lnTo>
                  <a:pt x="867" y="761"/>
                </a:lnTo>
                <a:lnTo>
                  <a:pt x="862" y="775"/>
                </a:lnTo>
                <a:lnTo>
                  <a:pt x="857" y="786"/>
                </a:lnTo>
                <a:lnTo>
                  <a:pt x="849" y="793"/>
                </a:lnTo>
                <a:lnTo>
                  <a:pt x="838" y="800"/>
                </a:lnTo>
                <a:lnTo>
                  <a:pt x="827" y="805"/>
                </a:lnTo>
                <a:lnTo>
                  <a:pt x="814" y="808"/>
                </a:lnTo>
                <a:lnTo>
                  <a:pt x="797" y="811"/>
                </a:lnTo>
                <a:lnTo>
                  <a:pt x="783" y="815"/>
                </a:lnTo>
                <a:lnTo>
                  <a:pt x="767" y="818"/>
                </a:lnTo>
                <a:lnTo>
                  <a:pt x="753" y="820"/>
                </a:lnTo>
                <a:lnTo>
                  <a:pt x="737" y="823"/>
                </a:lnTo>
                <a:lnTo>
                  <a:pt x="725" y="829"/>
                </a:lnTo>
                <a:lnTo>
                  <a:pt x="711" y="834"/>
                </a:lnTo>
                <a:lnTo>
                  <a:pt x="698" y="841"/>
                </a:lnTo>
                <a:lnTo>
                  <a:pt x="688" y="851"/>
                </a:lnTo>
                <a:lnTo>
                  <a:pt x="680" y="862"/>
                </a:lnTo>
                <a:lnTo>
                  <a:pt x="673" y="875"/>
                </a:lnTo>
                <a:lnTo>
                  <a:pt x="671" y="887"/>
                </a:lnTo>
                <a:lnTo>
                  <a:pt x="672" y="900"/>
                </a:lnTo>
                <a:lnTo>
                  <a:pt x="674" y="913"/>
                </a:lnTo>
                <a:lnTo>
                  <a:pt x="679" y="926"/>
                </a:lnTo>
                <a:lnTo>
                  <a:pt x="682" y="941"/>
                </a:lnTo>
                <a:lnTo>
                  <a:pt x="685" y="954"/>
                </a:lnTo>
                <a:lnTo>
                  <a:pt x="688" y="971"/>
                </a:lnTo>
                <a:lnTo>
                  <a:pt x="688" y="989"/>
                </a:lnTo>
                <a:lnTo>
                  <a:pt x="684" y="1006"/>
                </a:lnTo>
                <a:lnTo>
                  <a:pt x="680" y="1019"/>
                </a:lnTo>
                <a:lnTo>
                  <a:pt x="674" y="1032"/>
                </a:lnTo>
                <a:lnTo>
                  <a:pt x="668" y="1045"/>
                </a:lnTo>
                <a:lnTo>
                  <a:pt x="658" y="1061"/>
                </a:lnTo>
                <a:lnTo>
                  <a:pt x="648" y="1071"/>
                </a:lnTo>
                <a:lnTo>
                  <a:pt x="639" y="1078"/>
                </a:lnTo>
                <a:lnTo>
                  <a:pt x="628" y="1087"/>
                </a:lnTo>
                <a:lnTo>
                  <a:pt x="615" y="1094"/>
                </a:lnTo>
                <a:lnTo>
                  <a:pt x="604" y="1098"/>
                </a:lnTo>
                <a:lnTo>
                  <a:pt x="594" y="1101"/>
                </a:lnTo>
                <a:lnTo>
                  <a:pt x="576" y="1102"/>
                </a:lnTo>
                <a:lnTo>
                  <a:pt x="556" y="1103"/>
                </a:lnTo>
                <a:lnTo>
                  <a:pt x="532" y="1102"/>
                </a:lnTo>
                <a:lnTo>
                  <a:pt x="521" y="1102"/>
                </a:lnTo>
                <a:lnTo>
                  <a:pt x="506" y="1100"/>
                </a:lnTo>
                <a:lnTo>
                  <a:pt x="490" y="1096"/>
                </a:lnTo>
                <a:lnTo>
                  <a:pt x="476" y="1089"/>
                </a:lnTo>
                <a:lnTo>
                  <a:pt x="468" y="1083"/>
                </a:lnTo>
                <a:lnTo>
                  <a:pt x="458" y="1074"/>
                </a:lnTo>
                <a:lnTo>
                  <a:pt x="450" y="1066"/>
                </a:lnTo>
                <a:lnTo>
                  <a:pt x="442" y="1056"/>
                </a:lnTo>
                <a:lnTo>
                  <a:pt x="436" y="1046"/>
                </a:lnTo>
                <a:lnTo>
                  <a:pt x="431" y="1033"/>
                </a:lnTo>
                <a:lnTo>
                  <a:pt x="428" y="1020"/>
                </a:lnTo>
                <a:lnTo>
                  <a:pt x="428" y="1010"/>
                </a:lnTo>
                <a:lnTo>
                  <a:pt x="428" y="996"/>
                </a:lnTo>
                <a:lnTo>
                  <a:pt x="428" y="984"/>
                </a:lnTo>
                <a:lnTo>
                  <a:pt x="433" y="971"/>
                </a:lnTo>
                <a:lnTo>
                  <a:pt x="436" y="956"/>
                </a:lnTo>
                <a:lnTo>
                  <a:pt x="441" y="942"/>
                </a:lnTo>
                <a:lnTo>
                  <a:pt x="443" y="930"/>
                </a:lnTo>
                <a:lnTo>
                  <a:pt x="444" y="918"/>
                </a:lnTo>
                <a:lnTo>
                  <a:pt x="443" y="909"/>
                </a:lnTo>
                <a:lnTo>
                  <a:pt x="441" y="899"/>
                </a:lnTo>
                <a:lnTo>
                  <a:pt x="434" y="887"/>
                </a:lnTo>
                <a:lnTo>
                  <a:pt x="427" y="880"/>
                </a:lnTo>
                <a:lnTo>
                  <a:pt x="418" y="871"/>
                </a:lnTo>
                <a:lnTo>
                  <a:pt x="409" y="865"/>
                </a:lnTo>
                <a:lnTo>
                  <a:pt x="399" y="858"/>
                </a:lnTo>
                <a:lnTo>
                  <a:pt x="385" y="854"/>
                </a:lnTo>
                <a:lnTo>
                  <a:pt x="373" y="851"/>
                </a:lnTo>
                <a:lnTo>
                  <a:pt x="357" y="847"/>
                </a:lnTo>
                <a:lnTo>
                  <a:pt x="343" y="846"/>
                </a:lnTo>
                <a:lnTo>
                  <a:pt x="330" y="843"/>
                </a:lnTo>
                <a:lnTo>
                  <a:pt x="315" y="840"/>
                </a:lnTo>
                <a:lnTo>
                  <a:pt x="302" y="835"/>
                </a:lnTo>
                <a:lnTo>
                  <a:pt x="286" y="831"/>
                </a:lnTo>
                <a:lnTo>
                  <a:pt x="274" y="826"/>
                </a:lnTo>
                <a:lnTo>
                  <a:pt x="264" y="819"/>
                </a:lnTo>
                <a:lnTo>
                  <a:pt x="256" y="810"/>
                </a:lnTo>
                <a:lnTo>
                  <a:pt x="251" y="798"/>
                </a:lnTo>
                <a:lnTo>
                  <a:pt x="247" y="782"/>
                </a:lnTo>
                <a:lnTo>
                  <a:pt x="246" y="770"/>
                </a:lnTo>
                <a:lnTo>
                  <a:pt x="247" y="756"/>
                </a:lnTo>
                <a:lnTo>
                  <a:pt x="249" y="745"/>
                </a:lnTo>
                <a:lnTo>
                  <a:pt x="247" y="731"/>
                </a:lnTo>
                <a:lnTo>
                  <a:pt x="242" y="721"/>
                </a:lnTo>
                <a:lnTo>
                  <a:pt x="235" y="710"/>
                </a:lnTo>
                <a:lnTo>
                  <a:pt x="227" y="703"/>
                </a:lnTo>
                <a:lnTo>
                  <a:pt x="217" y="696"/>
                </a:lnTo>
                <a:lnTo>
                  <a:pt x="204" y="691"/>
                </a:lnTo>
                <a:lnTo>
                  <a:pt x="189" y="687"/>
                </a:lnTo>
                <a:lnTo>
                  <a:pt x="174" y="685"/>
                </a:lnTo>
                <a:lnTo>
                  <a:pt x="161" y="684"/>
                </a:lnTo>
                <a:lnTo>
                  <a:pt x="146" y="684"/>
                </a:lnTo>
                <a:lnTo>
                  <a:pt x="133" y="685"/>
                </a:lnTo>
                <a:lnTo>
                  <a:pt x="120" y="686"/>
                </a:lnTo>
                <a:lnTo>
                  <a:pt x="107" y="688"/>
                </a:lnTo>
                <a:lnTo>
                  <a:pt x="94" y="689"/>
                </a:lnTo>
                <a:lnTo>
                  <a:pt x="72" y="689"/>
                </a:lnTo>
                <a:lnTo>
                  <a:pt x="58" y="688"/>
                </a:lnTo>
                <a:lnTo>
                  <a:pt x="43" y="685"/>
                </a:lnTo>
                <a:lnTo>
                  <a:pt x="33" y="680"/>
                </a:lnTo>
                <a:lnTo>
                  <a:pt x="22" y="673"/>
                </a:lnTo>
                <a:lnTo>
                  <a:pt x="14" y="664"/>
                </a:lnTo>
                <a:lnTo>
                  <a:pt x="9" y="655"/>
                </a:lnTo>
                <a:lnTo>
                  <a:pt x="3" y="637"/>
                </a:lnTo>
                <a:lnTo>
                  <a:pt x="2" y="618"/>
                </a:lnTo>
                <a:lnTo>
                  <a:pt x="1" y="599"/>
                </a:lnTo>
                <a:lnTo>
                  <a:pt x="0" y="575"/>
                </a:lnTo>
                <a:lnTo>
                  <a:pt x="2" y="555"/>
                </a:lnTo>
                <a:lnTo>
                  <a:pt x="3" y="533"/>
                </a:lnTo>
                <a:lnTo>
                  <a:pt x="3" y="513"/>
                </a:lnTo>
                <a:lnTo>
                  <a:pt x="5" y="493"/>
                </a:lnTo>
                <a:lnTo>
                  <a:pt x="8" y="477"/>
                </a:lnTo>
                <a:lnTo>
                  <a:pt x="10" y="460"/>
                </a:lnTo>
                <a:lnTo>
                  <a:pt x="14" y="447"/>
                </a:lnTo>
                <a:lnTo>
                  <a:pt x="19" y="438"/>
                </a:lnTo>
                <a:lnTo>
                  <a:pt x="27" y="430"/>
                </a:lnTo>
                <a:lnTo>
                  <a:pt x="35" y="424"/>
                </a:lnTo>
                <a:lnTo>
                  <a:pt x="45" y="418"/>
                </a:lnTo>
                <a:lnTo>
                  <a:pt x="55" y="416"/>
                </a:lnTo>
                <a:lnTo>
                  <a:pt x="67" y="414"/>
                </a:lnTo>
                <a:lnTo>
                  <a:pt x="83" y="413"/>
                </a:lnTo>
                <a:lnTo>
                  <a:pt x="96" y="414"/>
                </a:lnTo>
                <a:lnTo>
                  <a:pt x="116" y="416"/>
                </a:lnTo>
                <a:lnTo>
                  <a:pt x="132" y="417"/>
                </a:lnTo>
                <a:lnTo>
                  <a:pt x="146" y="418"/>
                </a:lnTo>
                <a:lnTo>
                  <a:pt x="165" y="419"/>
                </a:lnTo>
                <a:lnTo>
                  <a:pt x="185" y="416"/>
                </a:lnTo>
                <a:lnTo>
                  <a:pt x="202" y="413"/>
                </a:lnTo>
                <a:lnTo>
                  <a:pt x="217" y="408"/>
                </a:lnTo>
                <a:lnTo>
                  <a:pt x="228" y="402"/>
                </a:lnTo>
                <a:lnTo>
                  <a:pt x="238" y="394"/>
                </a:lnTo>
                <a:lnTo>
                  <a:pt x="246" y="383"/>
                </a:lnTo>
                <a:lnTo>
                  <a:pt x="251" y="372"/>
                </a:lnTo>
                <a:lnTo>
                  <a:pt x="253" y="360"/>
                </a:lnTo>
                <a:lnTo>
                  <a:pt x="252" y="351"/>
                </a:lnTo>
                <a:lnTo>
                  <a:pt x="251" y="335"/>
                </a:lnTo>
                <a:lnTo>
                  <a:pt x="252" y="318"/>
                </a:lnTo>
                <a:lnTo>
                  <a:pt x="256" y="306"/>
                </a:lnTo>
                <a:lnTo>
                  <a:pt x="260" y="294"/>
                </a:lnTo>
                <a:lnTo>
                  <a:pt x="266" y="285"/>
                </a:lnTo>
                <a:lnTo>
                  <a:pt x="278" y="277"/>
                </a:lnTo>
                <a:lnTo>
                  <a:pt x="291" y="270"/>
                </a:lnTo>
                <a:lnTo>
                  <a:pt x="308" y="266"/>
                </a:lnTo>
                <a:lnTo>
                  <a:pt x="324" y="262"/>
                </a:lnTo>
                <a:lnTo>
                  <a:pt x="338" y="259"/>
                </a:lnTo>
                <a:lnTo>
                  <a:pt x="355" y="256"/>
                </a:lnTo>
                <a:lnTo>
                  <a:pt x="372" y="253"/>
                </a:lnTo>
                <a:lnTo>
                  <a:pt x="391" y="249"/>
                </a:lnTo>
                <a:lnTo>
                  <a:pt x="409" y="241"/>
                </a:lnTo>
                <a:lnTo>
                  <a:pt x="425" y="23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905120"/>
            <a:ext cx="1525680" cy="1176120"/>
          </a:xfrm>
          <a:custGeom>
            <a:avLst/>
            <a:gdLst/>
            <a:ahLst/>
            <a:rect l="l" t="t" r="r" b="b"/>
            <a:pathLst>
              <a:path w="961" h="741">
                <a:moveTo>
                  <a:pt x="960" y="184"/>
                </a:moveTo>
                <a:lnTo>
                  <a:pt x="960" y="0"/>
                </a:lnTo>
                <a:lnTo>
                  <a:pt x="0" y="0"/>
                </a:lnTo>
                <a:lnTo>
                  <a:pt x="1" y="740"/>
                </a:lnTo>
                <a:lnTo>
                  <a:pt x="86" y="740"/>
                </a:lnTo>
                <a:lnTo>
                  <a:pt x="90" y="726"/>
                </a:lnTo>
                <a:lnTo>
                  <a:pt x="90" y="716"/>
                </a:lnTo>
                <a:lnTo>
                  <a:pt x="88" y="701"/>
                </a:lnTo>
                <a:lnTo>
                  <a:pt x="83" y="686"/>
                </a:lnTo>
                <a:lnTo>
                  <a:pt x="78" y="668"/>
                </a:lnTo>
                <a:lnTo>
                  <a:pt x="75" y="654"/>
                </a:lnTo>
                <a:lnTo>
                  <a:pt x="75" y="642"/>
                </a:lnTo>
                <a:lnTo>
                  <a:pt x="77" y="627"/>
                </a:lnTo>
                <a:lnTo>
                  <a:pt x="81" y="614"/>
                </a:lnTo>
                <a:lnTo>
                  <a:pt x="90" y="601"/>
                </a:lnTo>
                <a:lnTo>
                  <a:pt x="101" y="590"/>
                </a:lnTo>
                <a:lnTo>
                  <a:pt x="113" y="580"/>
                </a:lnTo>
                <a:lnTo>
                  <a:pt x="126" y="573"/>
                </a:lnTo>
                <a:lnTo>
                  <a:pt x="142" y="567"/>
                </a:lnTo>
                <a:lnTo>
                  <a:pt x="156" y="564"/>
                </a:lnTo>
                <a:lnTo>
                  <a:pt x="176" y="564"/>
                </a:lnTo>
                <a:lnTo>
                  <a:pt x="199" y="565"/>
                </a:lnTo>
                <a:lnTo>
                  <a:pt x="214" y="567"/>
                </a:lnTo>
                <a:lnTo>
                  <a:pt x="227" y="571"/>
                </a:lnTo>
                <a:lnTo>
                  <a:pt x="240" y="578"/>
                </a:lnTo>
                <a:lnTo>
                  <a:pt x="255" y="590"/>
                </a:lnTo>
                <a:lnTo>
                  <a:pt x="265" y="601"/>
                </a:lnTo>
                <a:lnTo>
                  <a:pt x="274" y="612"/>
                </a:lnTo>
                <a:lnTo>
                  <a:pt x="279" y="625"/>
                </a:lnTo>
                <a:lnTo>
                  <a:pt x="283" y="637"/>
                </a:lnTo>
                <a:lnTo>
                  <a:pt x="283" y="650"/>
                </a:lnTo>
                <a:lnTo>
                  <a:pt x="281" y="664"/>
                </a:lnTo>
                <a:lnTo>
                  <a:pt x="278" y="676"/>
                </a:lnTo>
                <a:lnTo>
                  <a:pt x="274" y="688"/>
                </a:lnTo>
                <a:lnTo>
                  <a:pt x="270" y="701"/>
                </a:lnTo>
                <a:lnTo>
                  <a:pt x="268" y="713"/>
                </a:lnTo>
                <a:lnTo>
                  <a:pt x="268" y="724"/>
                </a:lnTo>
                <a:lnTo>
                  <a:pt x="271" y="737"/>
                </a:lnTo>
                <a:lnTo>
                  <a:pt x="432" y="737"/>
                </a:lnTo>
                <a:lnTo>
                  <a:pt x="430" y="711"/>
                </a:lnTo>
                <a:lnTo>
                  <a:pt x="432" y="692"/>
                </a:lnTo>
                <a:lnTo>
                  <a:pt x="432" y="678"/>
                </a:lnTo>
                <a:lnTo>
                  <a:pt x="433" y="664"/>
                </a:lnTo>
                <a:lnTo>
                  <a:pt x="434" y="650"/>
                </a:lnTo>
                <a:lnTo>
                  <a:pt x="438" y="636"/>
                </a:lnTo>
                <a:lnTo>
                  <a:pt x="442" y="627"/>
                </a:lnTo>
                <a:lnTo>
                  <a:pt x="448" y="618"/>
                </a:lnTo>
                <a:lnTo>
                  <a:pt x="456" y="611"/>
                </a:lnTo>
                <a:lnTo>
                  <a:pt x="465" y="605"/>
                </a:lnTo>
                <a:lnTo>
                  <a:pt x="476" y="602"/>
                </a:lnTo>
                <a:lnTo>
                  <a:pt x="487" y="601"/>
                </a:lnTo>
                <a:lnTo>
                  <a:pt x="498" y="600"/>
                </a:lnTo>
                <a:lnTo>
                  <a:pt x="512" y="600"/>
                </a:lnTo>
                <a:lnTo>
                  <a:pt x="526" y="601"/>
                </a:lnTo>
                <a:lnTo>
                  <a:pt x="536" y="602"/>
                </a:lnTo>
                <a:lnTo>
                  <a:pt x="550" y="603"/>
                </a:lnTo>
                <a:lnTo>
                  <a:pt x="565" y="605"/>
                </a:lnTo>
                <a:lnTo>
                  <a:pt x="582" y="605"/>
                </a:lnTo>
                <a:lnTo>
                  <a:pt x="596" y="603"/>
                </a:lnTo>
                <a:lnTo>
                  <a:pt x="610" y="601"/>
                </a:lnTo>
                <a:lnTo>
                  <a:pt x="625" y="598"/>
                </a:lnTo>
                <a:lnTo>
                  <a:pt x="636" y="592"/>
                </a:lnTo>
                <a:lnTo>
                  <a:pt x="647" y="585"/>
                </a:lnTo>
                <a:lnTo>
                  <a:pt x="655" y="575"/>
                </a:lnTo>
                <a:lnTo>
                  <a:pt x="662" y="565"/>
                </a:lnTo>
                <a:lnTo>
                  <a:pt x="666" y="555"/>
                </a:lnTo>
                <a:lnTo>
                  <a:pt x="667" y="543"/>
                </a:lnTo>
                <a:lnTo>
                  <a:pt x="666" y="531"/>
                </a:lnTo>
                <a:lnTo>
                  <a:pt x="665" y="519"/>
                </a:lnTo>
                <a:lnTo>
                  <a:pt x="666" y="505"/>
                </a:lnTo>
                <a:lnTo>
                  <a:pt x="668" y="495"/>
                </a:lnTo>
                <a:lnTo>
                  <a:pt x="672" y="484"/>
                </a:lnTo>
                <a:lnTo>
                  <a:pt x="676" y="474"/>
                </a:lnTo>
                <a:lnTo>
                  <a:pt x="683" y="467"/>
                </a:lnTo>
                <a:lnTo>
                  <a:pt x="694" y="460"/>
                </a:lnTo>
                <a:lnTo>
                  <a:pt x="707" y="455"/>
                </a:lnTo>
                <a:lnTo>
                  <a:pt x="720" y="451"/>
                </a:lnTo>
                <a:lnTo>
                  <a:pt x="733" y="448"/>
                </a:lnTo>
                <a:lnTo>
                  <a:pt x="746" y="445"/>
                </a:lnTo>
                <a:lnTo>
                  <a:pt x="764" y="442"/>
                </a:lnTo>
                <a:lnTo>
                  <a:pt x="777" y="439"/>
                </a:lnTo>
                <a:lnTo>
                  <a:pt x="791" y="435"/>
                </a:lnTo>
                <a:lnTo>
                  <a:pt x="802" y="431"/>
                </a:lnTo>
                <a:lnTo>
                  <a:pt x="814" y="427"/>
                </a:lnTo>
                <a:lnTo>
                  <a:pt x="823" y="420"/>
                </a:lnTo>
                <a:lnTo>
                  <a:pt x="832" y="414"/>
                </a:lnTo>
                <a:lnTo>
                  <a:pt x="841" y="404"/>
                </a:lnTo>
                <a:lnTo>
                  <a:pt x="846" y="394"/>
                </a:lnTo>
                <a:lnTo>
                  <a:pt x="851" y="383"/>
                </a:lnTo>
                <a:lnTo>
                  <a:pt x="854" y="369"/>
                </a:lnTo>
                <a:lnTo>
                  <a:pt x="852" y="357"/>
                </a:lnTo>
                <a:lnTo>
                  <a:pt x="851" y="345"/>
                </a:lnTo>
                <a:lnTo>
                  <a:pt x="846" y="330"/>
                </a:lnTo>
                <a:lnTo>
                  <a:pt x="842" y="313"/>
                </a:lnTo>
                <a:lnTo>
                  <a:pt x="838" y="298"/>
                </a:lnTo>
                <a:lnTo>
                  <a:pt x="837" y="287"/>
                </a:lnTo>
                <a:lnTo>
                  <a:pt x="837" y="276"/>
                </a:lnTo>
                <a:lnTo>
                  <a:pt x="839" y="261"/>
                </a:lnTo>
                <a:lnTo>
                  <a:pt x="843" y="248"/>
                </a:lnTo>
                <a:lnTo>
                  <a:pt x="847" y="239"/>
                </a:lnTo>
                <a:lnTo>
                  <a:pt x="853" y="229"/>
                </a:lnTo>
                <a:lnTo>
                  <a:pt x="861" y="219"/>
                </a:lnTo>
                <a:lnTo>
                  <a:pt x="870" y="209"/>
                </a:lnTo>
                <a:lnTo>
                  <a:pt x="882" y="200"/>
                </a:lnTo>
                <a:lnTo>
                  <a:pt x="895" y="193"/>
                </a:lnTo>
                <a:lnTo>
                  <a:pt x="906" y="189"/>
                </a:lnTo>
                <a:lnTo>
                  <a:pt x="918" y="186"/>
                </a:lnTo>
                <a:lnTo>
                  <a:pt x="930" y="184"/>
                </a:lnTo>
                <a:lnTo>
                  <a:pt x="945" y="184"/>
                </a:lnTo>
                <a:lnTo>
                  <a:pt x="960" y="184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648320"/>
            <a:ext cx="1363680" cy="1301760"/>
          </a:xfrm>
          <a:custGeom>
            <a:avLst/>
            <a:gdLst/>
            <a:ahLst/>
            <a:rect l="l" t="t" r="r" b="b"/>
            <a:pathLst>
              <a:path w="859" h="820">
                <a:moveTo>
                  <a:pt x="858" y="674"/>
                </a:moveTo>
                <a:lnTo>
                  <a:pt x="858" y="819"/>
                </a:lnTo>
                <a:lnTo>
                  <a:pt x="1" y="819"/>
                </a:lnTo>
                <a:lnTo>
                  <a:pt x="0" y="165"/>
                </a:lnTo>
                <a:lnTo>
                  <a:pt x="74" y="165"/>
                </a:lnTo>
                <a:lnTo>
                  <a:pt x="77" y="159"/>
                </a:lnTo>
                <a:lnTo>
                  <a:pt x="80" y="151"/>
                </a:lnTo>
                <a:lnTo>
                  <a:pt x="80" y="145"/>
                </a:lnTo>
                <a:lnTo>
                  <a:pt x="79" y="137"/>
                </a:lnTo>
                <a:lnTo>
                  <a:pt x="76" y="126"/>
                </a:lnTo>
                <a:lnTo>
                  <a:pt x="73" y="113"/>
                </a:lnTo>
                <a:lnTo>
                  <a:pt x="70" y="104"/>
                </a:lnTo>
                <a:lnTo>
                  <a:pt x="67" y="93"/>
                </a:lnTo>
                <a:lnTo>
                  <a:pt x="66" y="83"/>
                </a:lnTo>
                <a:lnTo>
                  <a:pt x="66" y="73"/>
                </a:lnTo>
                <a:lnTo>
                  <a:pt x="67" y="64"/>
                </a:lnTo>
                <a:lnTo>
                  <a:pt x="70" y="53"/>
                </a:lnTo>
                <a:lnTo>
                  <a:pt x="74" y="44"/>
                </a:lnTo>
                <a:lnTo>
                  <a:pt x="80" y="36"/>
                </a:lnTo>
                <a:lnTo>
                  <a:pt x="88" y="28"/>
                </a:lnTo>
                <a:lnTo>
                  <a:pt x="95" y="21"/>
                </a:lnTo>
                <a:lnTo>
                  <a:pt x="103" y="15"/>
                </a:lnTo>
                <a:lnTo>
                  <a:pt x="112" y="9"/>
                </a:lnTo>
                <a:lnTo>
                  <a:pt x="123" y="5"/>
                </a:lnTo>
                <a:lnTo>
                  <a:pt x="135" y="2"/>
                </a:lnTo>
                <a:lnTo>
                  <a:pt x="147" y="1"/>
                </a:lnTo>
                <a:lnTo>
                  <a:pt x="158" y="0"/>
                </a:lnTo>
                <a:lnTo>
                  <a:pt x="169" y="0"/>
                </a:lnTo>
                <a:lnTo>
                  <a:pt x="179" y="1"/>
                </a:lnTo>
                <a:lnTo>
                  <a:pt x="188" y="2"/>
                </a:lnTo>
                <a:lnTo>
                  <a:pt x="197" y="5"/>
                </a:lnTo>
                <a:lnTo>
                  <a:pt x="207" y="8"/>
                </a:lnTo>
                <a:lnTo>
                  <a:pt x="214" y="12"/>
                </a:lnTo>
                <a:lnTo>
                  <a:pt x="222" y="18"/>
                </a:lnTo>
                <a:lnTo>
                  <a:pt x="230" y="26"/>
                </a:lnTo>
                <a:lnTo>
                  <a:pt x="237" y="34"/>
                </a:lnTo>
                <a:lnTo>
                  <a:pt x="244" y="42"/>
                </a:lnTo>
                <a:lnTo>
                  <a:pt x="249" y="50"/>
                </a:lnTo>
                <a:lnTo>
                  <a:pt x="253" y="61"/>
                </a:lnTo>
                <a:lnTo>
                  <a:pt x="256" y="74"/>
                </a:lnTo>
                <a:lnTo>
                  <a:pt x="256" y="85"/>
                </a:lnTo>
                <a:lnTo>
                  <a:pt x="253" y="97"/>
                </a:lnTo>
                <a:lnTo>
                  <a:pt x="250" y="109"/>
                </a:lnTo>
                <a:lnTo>
                  <a:pt x="247" y="120"/>
                </a:lnTo>
                <a:lnTo>
                  <a:pt x="243" y="134"/>
                </a:lnTo>
                <a:lnTo>
                  <a:pt x="241" y="144"/>
                </a:lnTo>
                <a:lnTo>
                  <a:pt x="241" y="150"/>
                </a:lnTo>
                <a:lnTo>
                  <a:pt x="243" y="155"/>
                </a:lnTo>
                <a:lnTo>
                  <a:pt x="245" y="161"/>
                </a:lnTo>
                <a:lnTo>
                  <a:pt x="387" y="161"/>
                </a:lnTo>
                <a:lnTo>
                  <a:pt x="384" y="188"/>
                </a:lnTo>
                <a:lnTo>
                  <a:pt x="383" y="204"/>
                </a:lnTo>
                <a:lnTo>
                  <a:pt x="384" y="217"/>
                </a:lnTo>
                <a:lnTo>
                  <a:pt x="385" y="229"/>
                </a:lnTo>
                <a:lnTo>
                  <a:pt x="386" y="242"/>
                </a:lnTo>
                <a:lnTo>
                  <a:pt x="388" y="255"/>
                </a:lnTo>
                <a:lnTo>
                  <a:pt x="393" y="264"/>
                </a:lnTo>
                <a:lnTo>
                  <a:pt x="398" y="272"/>
                </a:lnTo>
                <a:lnTo>
                  <a:pt x="405" y="278"/>
                </a:lnTo>
                <a:lnTo>
                  <a:pt x="414" y="283"/>
                </a:lnTo>
                <a:lnTo>
                  <a:pt x="423" y="287"/>
                </a:lnTo>
                <a:lnTo>
                  <a:pt x="433" y="288"/>
                </a:lnTo>
                <a:lnTo>
                  <a:pt x="444" y="289"/>
                </a:lnTo>
                <a:lnTo>
                  <a:pt x="455" y="289"/>
                </a:lnTo>
                <a:lnTo>
                  <a:pt x="468" y="288"/>
                </a:lnTo>
                <a:lnTo>
                  <a:pt x="477" y="287"/>
                </a:lnTo>
                <a:lnTo>
                  <a:pt x="490" y="285"/>
                </a:lnTo>
                <a:lnTo>
                  <a:pt x="504" y="284"/>
                </a:lnTo>
                <a:lnTo>
                  <a:pt x="519" y="284"/>
                </a:lnTo>
                <a:lnTo>
                  <a:pt x="531" y="285"/>
                </a:lnTo>
                <a:lnTo>
                  <a:pt x="544" y="288"/>
                </a:lnTo>
                <a:lnTo>
                  <a:pt x="557" y="292"/>
                </a:lnTo>
                <a:lnTo>
                  <a:pt x="567" y="296"/>
                </a:lnTo>
                <a:lnTo>
                  <a:pt x="577" y="304"/>
                </a:lnTo>
                <a:lnTo>
                  <a:pt x="584" y="312"/>
                </a:lnTo>
                <a:lnTo>
                  <a:pt x="590" y="321"/>
                </a:lnTo>
                <a:lnTo>
                  <a:pt x="594" y="331"/>
                </a:lnTo>
                <a:lnTo>
                  <a:pt x="595" y="342"/>
                </a:lnTo>
                <a:lnTo>
                  <a:pt x="594" y="353"/>
                </a:lnTo>
                <a:lnTo>
                  <a:pt x="593" y="365"/>
                </a:lnTo>
                <a:lnTo>
                  <a:pt x="594" y="377"/>
                </a:lnTo>
                <a:lnTo>
                  <a:pt x="595" y="387"/>
                </a:lnTo>
                <a:lnTo>
                  <a:pt x="599" y="396"/>
                </a:lnTo>
                <a:lnTo>
                  <a:pt x="604" y="406"/>
                </a:lnTo>
                <a:lnTo>
                  <a:pt x="609" y="412"/>
                </a:lnTo>
                <a:lnTo>
                  <a:pt x="618" y="419"/>
                </a:lnTo>
                <a:lnTo>
                  <a:pt x="630" y="423"/>
                </a:lnTo>
                <a:lnTo>
                  <a:pt x="643" y="427"/>
                </a:lnTo>
                <a:lnTo>
                  <a:pt x="653" y="430"/>
                </a:lnTo>
                <a:lnTo>
                  <a:pt x="666" y="433"/>
                </a:lnTo>
                <a:lnTo>
                  <a:pt x="681" y="436"/>
                </a:lnTo>
                <a:lnTo>
                  <a:pt x="694" y="438"/>
                </a:lnTo>
                <a:lnTo>
                  <a:pt x="706" y="442"/>
                </a:lnTo>
                <a:lnTo>
                  <a:pt x="717" y="445"/>
                </a:lnTo>
                <a:lnTo>
                  <a:pt x="727" y="450"/>
                </a:lnTo>
                <a:lnTo>
                  <a:pt x="735" y="455"/>
                </a:lnTo>
                <a:lnTo>
                  <a:pt x="742" y="461"/>
                </a:lnTo>
                <a:lnTo>
                  <a:pt x="751" y="471"/>
                </a:lnTo>
                <a:lnTo>
                  <a:pt x="756" y="480"/>
                </a:lnTo>
                <a:lnTo>
                  <a:pt x="761" y="489"/>
                </a:lnTo>
                <a:lnTo>
                  <a:pt x="763" y="502"/>
                </a:lnTo>
                <a:lnTo>
                  <a:pt x="761" y="515"/>
                </a:lnTo>
                <a:lnTo>
                  <a:pt x="759" y="526"/>
                </a:lnTo>
                <a:lnTo>
                  <a:pt x="756" y="539"/>
                </a:lnTo>
                <a:lnTo>
                  <a:pt x="752" y="555"/>
                </a:lnTo>
                <a:lnTo>
                  <a:pt x="749" y="569"/>
                </a:lnTo>
                <a:lnTo>
                  <a:pt x="747" y="580"/>
                </a:lnTo>
                <a:lnTo>
                  <a:pt x="747" y="590"/>
                </a:lnTo>
                <a:lnTo>
                  <a:pt x="749" y="604"/>
                </a:lnTo>
                <a:lnTo>
                  <a:pt x="752" y="615"/>
                </a:lnTo>
                <a:lnTo>
                  <a:pt x="757" y="624"/>
                </a:lnTo>
                <a:lnTo>
                  <a:pt x="762" y="633"/>
                </a:lnTo>
                <a:lnTo>
                  <a:pt x="769" y="642"/>
                </a:lnTo>
                <a:lnTo>
                  <a:pt x="778" y="652"/>
                </a:lnTo>
                <a:lnTo>
                  <a:pt x="787" y="660"/>
                </a:lnTo>
                <a:lnTo>
                  <a:pt x="798" y="666"/>
                </a:lnTo>
                <a:lnTo>
                  <a:pt x="809" y="670"/>
                </a:lnTo>
                <a:lnTo>
                  <a:pt x="820" y="673"/>
                </a:lnTo>
                <a:lnTo>
                  <a:pt x="831" y="674"/>
                </a:lnTo>
                <a:lnTo>
                  <a:pt x="845" y="675"/>
                </a:lnTo>
                <a:lnTo>
                  <a:pt x="858" y="674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286000"/>
            <a:ext cx="1449360" cy="1225440"/>
          </a:xfrm>
          <a:custGeom>
            <a:avLst/>
            <a:gdLst/>
            <a:ahLst/>
            <a:rect l="l" t="t" r="r" b="b"/>
            <a:pathLst>
              <a:path w="913" h="772">
                <a:moveTo>
                  <a:pt x="912" y="609"/>
                </a:moveTo>
                <a:lnTo>
                  <a:pt x="912" y="771"/>
                </a:lnTo>
                <a:lnTo>
                  <a:pt x="0" y="771"/>
                </a:lnTo>
                <a:lnTo>
                  <a:pt x="1" y="0"/>
                </a:lnTo>
                <a:lnTo>
                  <a:pt x="82" y="0"/>
                </a:lnTo>
                <a:lnTo>
                  <a:pt x="86" y="15"/>
                </a:lnTo>
                <a:lnTo>
                  <a:pt x="86" y="25"/>
                </a:lnTo>
                <a:lnTo>
                  <a:pt x="83" y="40"/>
                </a:lnTo>
                <a:lnTo>
                  <a:pt x="79" y="56"/>
                </a:lnTo>
                <a:lnTo>
                  <a:pt x="74" y="75"/>
                </a:lnTo>
                <a:lnTo>
                  <a:pt x="72" y="89"/>
                </a:lnTo>
                <a:lnTo>
                  <a:pt x="72" y="103"/>
                </a:lnTo>
                <a:lnTo>
                  <a:pt x="73" y="117"/>
                </a:lnTo>
                <a:lnTo>
                  <a:pt x="77" y="131"/>
                </a:lnTo>
                <a:lnTo>
                  <a:pt x="86" y="144"/>
                </a:lnTo>
                <a:lnTo>
                  <a:pt x="96" y="156"/>
                </a:lnTo>
                <a:lnTo>
                  <a:pt x="107" y="167"/>
                </a:lnTo>
                <a:lnTo>
                  <a:pt x="120" y="174"/>
                </a:lnTo>
                <a:lnTo>
                  <a:pt x="135" y="180"/>
                </a:lnTo>
                <a:lnTo>
                  <a:pt x="148" y="183"/>
                </a:lnTo>
                <a:lnTo>
                  <a:pt x="167" y="184"/>
                </a:lnTo>
                <a:lnTo>
                  <a:pt x="189" y="182"/>
                </a:lnTo>
                <a:lnTo>
                  <a:pt x="203" y="180"/>
                </a:lnTo>
                <a:lnTo>
                  <a:pt x="216" y="176"/>
                </a:lnTo>
                <a:lnTo>
                  <a:pt x="228" y="169"/>
                </a:lnTo>
                <a:lnTo>
                  <a:pt x="243" y="157"/>
                </a:lnTo>
                <a:lnTo>
                  <a:pt x="252" y="145"/>
                </a:lnTo>
                <a:lnTo>
                  <a:pt x="261" y="133"/>
                </a:lnTo>
                <a:lnTo>
                  <a:pt x="265" y="120"/>
                </a:lnTo>
                <a:lnTo>
                  <a:pt x="269" y="107"/>
                </a:lnTo>
                <a:lnTo>
                  <a:pt x="269" y="94"/>
                </a:lnTo>
                <a:lnTo>
                  <a:pt x="267" y="80"/>
                </a:lnTo>
                <a:lnTo>
                  <a:pt x="264" y="66"/>
                </a:lnTo>
                <a:lnTo>
                  <a:pt x="261" y="54"/>
                </a:lnTo>
                <a:lnTo>
                  <a:pt x="257" y="41"/>
                </a:lnTo>
                <a:lnTo>
                  <a:pt x="254" y="28"/>
                </a:lnTo>
                <a:lnTo>
                  <a:pt x="254" y="16"/>
                </a:lnTo>
                <a:lnTo>
                  <a:pt x="258" y="3"/>
                </a:lnTo>
                <a:lnTo>
                  <a:pt x="410" y="3"/>
                </a:lnTo>
                <a:lnTo>
                  <a:pt x="409" y="30"/>
                </a:lnTo>
                <a:lnTo>
                  <a:pt x="410" y="49"/>
                </a:lnTo>
                <a:lnTo>
                  <a:pt x="411" y="65"/>
                </a:lnTo>
                <a:lnTo>
                  <a:pt x="411" y="79"/>
                </a:lnTo>
                <a:lnTo>
                  <a:pt x="413" y="94"/>
                </a:lnTo>
                <a:lnTo>
                  <a:pt x="416" y="108"/>
                </a:lnTo>
                <a:lnTo>
                  <a:pt x="420" y="118"/>
                </a:lnTo>
                <a:lnTo>
                  <a:pt x="425" y="127"/>
                </a:lnTo>
                <a:lnTo>
                  <a:pt x="433" y="135"/>
                </a:lnTo>
                <a:lnTo>
                  <a:pt x="442" y="140"/>
                </a:lnTo>
                <a:lnTo>
                  <a:pt x="452" y="144"/>
                </a:lnTo>
                <a:lnTo>
                  <a:pt x="463" y="145"/>
                </a:lnTo>
                <a:lnTo>
                  <a:pt x="473" y="146"/>
                </a:lnTo>
                <a:lnTo>
                  <a:pt x="487" y="146"/>
                </a:lnTo>
                <a:lnTo>
                  <a:pt x="499" y="144"/>
                </a:lnTo>
                <a:lnTo>
                  <a:pt x="510" y="144"/>
                </a:lnTo>
                <a:lnTo>
                  <a:pt x="523" y="143"/>
                </a:lnTo>
                <a:lnTo>
                  <a:pt x="537" y="141"/>
                </a:lnTo>
                <a:lnTo>
                  <a:pt x="553" y="141"/>
                </a:lnTo>
                <a:lnTo>
                  <a:pt x="566" y="143"/>
                </a:lnTo>
                <a:lnTo>
                  <a:pt x="580" y="144"/>
                </a:lnTo>
                <a:lnTo>
                  <a:pt x="594" y="148"/>
                </a:lnTo>
                <a:lnTo>
                  <a:pt x="604" y="154"/>
                </a:lnTo>
                <a:lnTo>
                  <a:pt x="615" y="162"/>
                </a:lnTo>
                <a:lnTo>
                  <a:pt x="622" y="171"/>
                </a:lnTo>
                <a:lnTo>
                  <a:pt x="629" y="182"/>
                </a:lnTo>
                <a:lnTo>
                  <a:pt x="632" y="193"/>
                </a:lnTo>
                <a:lnTo>
                  <a:pt x="634" y="205"/>
                </a:lnTo>
                <a:lnTo>
                  <a:pt x="632" y="217"/>
                </a:lnTo>
                <a:lnTo>
                  <a:pt x="632" y="230"/>
                </a:lnTo>
                <a:lnTo>
                  <a:pt x="632" y="244"/>
                </a:lnTo>
                <a:lnTo>
                  <a:pt x="635" y="255"/>
                </a:lnTo>
                <a:lnTo>
                  <a:pt x="638" y="267"/>
                </a:lnTo>
                <a:lnTo>
                  <a:pt x="643" y="277"/>
                </a:lnTo>
                <a:lnTo>
                  <a:pt x="649" y="285"/>
                </a:lnTo>
                <a:lnTo>
                  <a:pt x="659" y="292"/>
                </a:lnTo>
                <a:lnTo>
                  <a:pt x="672" y="297"/>
                </a:lnTo>
                <a:lnTo>
                  <a:pt x="684" y="301"/>
                </a:lnTo>
                <a:lnTo>
                  <a:pt x="696" y="304"/>
                </a:lnTo>
                <a:lnTo>
                  <a:pt x="709" y="308"/>
                </a:lnTo>
                <a:lnTo>
                  <a:pt x="725" y="311"/>
                </a:lnTo>
                <a:lnTo>
                  <a:pt x="738" y="313"/>
                </a:lnTo>
                <a:lnTo>
                  <a:pt x="751" y="317"/>
                </a:lnTo>
                <a:lnTo>
                  <a:pt x="762" y="322"/>
                </a:lnTo>
                <a:lnTo>
                  <a:pt x="773" y="326"/>
                </a:lnTo>
                <a:lnTo>
                  <a:pt x="782" y="333"/>
                </a:lnTo>
                <a:lnTo>
                  <a:pt x="790" y="340"/>
                </a:lnTo>
                <a:lnTo>
                  <a:pt x="799" y="350"/>
                </a:lnTo>
                <a:lnTo>
                  <a:pt x="804" y="360"/>
                </a:lnTo>
                <a:lnTo>
                  <a:pt x="809" y="372"/>
                </a:lnTo>
                <a:lnTo>
                  <a:pt x="811" y="386"/>
                </a:lnTo>
                <a:lnTo>
                  <a:pt x="810" y="399"/>
                </a:lnTo>
                <a:lnTo>
                  <a:pt x="808" y="412"/>
                </a:lnTo>
                <a:lnTo>
                  <a:pt x="804" y="427"/>
                </a:lnTo>
                <a:lnTo>
                  <a:pt x="800" y="445"/>
                </a:lnTo>
                <a:lnTo>
                  <a:pt x="797" y="460"/>
                </a:lnTo>
                <a:lnTo>
                  <a:pt x="795" y="472"/>
                </a:lnTo>
                <a:lnTo>
                  <a:pt x="795" y="484"/>
                </a:lnTo>
                <a:lnTo>
                  <a:pt x="797" y="500"/>
                </a:lnTo>
                <a:lnTo>
                  <a:pt x="801" y="513"/>
                </a:lnTo>
                <a:lnTo>
                  <a:pt x="804" y="524"/>
                </a:lnTo>
                <a:lnTo>
                  <a:pt x="809" y="535"/>
                </a:lnTo>
                <a:lnTo>
                  <a:pt x="815" y="549"/>
                </a:lnTo>
                <a:lnTo>
                  <a:pt x="824" y="564"/>
                </a:lnTo>
                <a:lnTo>
                  <a:pt x="833" y="576"/>
                </a:lnTo>
                <a:lnTo>
                  <a:pt x="843" y="585"/>
                </a:lnTo>
                <a:lnTo>
                  <a:pt x="851" y="593"/>
                </a:lnTo>
                <a:lnTo>
                  <a:pt x="861" y="600"/>
                </a:lnTo>
                <a:lnTo>
                  <a:pt x="870" y="604"/>
                </a:lnTo>
                <a:lnTo>
                  <a:pt x="884" y="607"/>
                </a:lnTo>
                <a:lnTo>
                  <a:pt x="899" y="609"/>
                </a:lnTo>
                <a:lnTo>
                  <a:pt x="912" y="609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2952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NDÊNCIAS DO RELATÓRIO POPC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(Faith Popcor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O encasulamento numa nova dé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ercar-se de uma concha de segurança, paz e proteção, conforto e controle, retiro da real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aventura da Fanta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scape emocional para o alívio do estresse, mudança da irresponsabilidade para a precaução, aventura com segurança, fabricada “in loc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3.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quenas Indulgê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quenas ajudas / equilíbrio das compensações / soluções emocionais que ajudam a superar fases difíce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4EF-0807-4521-8520-1AF19E982DB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2286000"/>
            <a:ext cx="1297080" cy="1084320"/>
          </a:xfrm>
          <a:custGeom>
            <a:avLst/>
            <a:gdLst/>
            <a:ahLst/>
            <a:rect l="l" t="t" r="r" b="b"/>
            <a:pathLst>
              <a:path w="817" h="683">
                <a:moveTo>
                  <a:pt x="0" y="142"/>
                </a:moveTo>
                <a:lnTo>
                  <a:pt x="0" y="0"/>
                </a:lnTo>
                <a:lnTo>
                  <a:pt x="815" y="0"/>
                </a:lnTo>
                <a:lnTo>
                  <a:pt x="816" y="545"/>
                </a:lnTo>
                <a:lnTo>
                  <a:pt x="745" y="545"/>
                </a:lnTo>
                <a:lnTo>
                  <a:pt x="742" y="549"/>
                </a:lnTo>
                <a:lnTo>
                  <a:pt x="740" y="556"/>
                </a:lnTo>
                <a:lnTo>
                  <a:pt x="740" y="562"/>
                </a:lnTo>
                <a:lnTo>
                  <a:pt x="741" y="568"/>
                </a:lnTo>
                <a:lnTo>
                  <a:pt x="744" y="577"/>
                </a:lnTo>
                <a:lnTo>
                  <a:pt x="747" y="588"/>
                </a:lnTo>
                <a:lnTo>
                  <a:pt x="749" y="595"/>
                </a:lnTo>
                <a:lnTo>
                  <a:pt x="752" y="604"/>
                </a:lnTo>
                <a:lnTo>
                  <a:pt x="753" y="613"/>
                </a:lnTo>
                <a:lnTo>
                  <a:pt x="753" y="621"/>
                </a:lnTo>
                <a:lnTo>
                  <a:pt x="752" y="629"/>
                </a:lnTo>
                <a:lnTo>
                  <a:pt x="749" y="638"/>
                </a:lnTo>
                <a:lnTo>
                  <a:pt x="746" y="646"/>
                </a:lnTo>
                <a:lnTo>
                  <a:pt x="740" y="652"/>
                </a:lnTo>
                <a:lnTo>
                  <a:pt x="732" y="659"/>
                </a:lnTo>
                <a:lnTo>
                  <a:pt x="725" y="664"/>
                </a:lnTo>
                <a:lnTo>
                  <a:pt x="718" y="670"/>
                </a:lnTo>
                <a:lnTo>
                  <a:pt x="709" y="674"/>
                </a:lnTo>
                <a:lnTo>
                  <a:pt x="699" y="677"/>
                </a:lnTo>
                <a:lnTo>
                  <a:pt x="687" y="680"/>
                </a:lnTo>
                <a:lnTo>
                  <a:pt x="676" y="681"/>
                </a:lnTo>
                <a:lnTo>
                  <a:pt x="666" y="682"/>
                </a:lnTo>
                <a:lnTo>
                  <a:pt x="655" y="682"/>
                </a:lnTo>
                <a:lnTo>
                  <a:pt x="645" y="681"/>
                </a:lnTo>
                <a:lnTo>
                  <a:pt x="638" y="680"/>
                </a:lnTo>
                <a:lnTo>
                  <a:pt x="628" y="678"/>
                </a:lnTo>
                <a:lnTo>
                  <a:pt x="619" y="675"/>
                </a:lnTo>
                <a:lnTo>
                  <a:pt x="612" y="672"/>
                </a:lnTo>
                <a:lnTo>
                  <a:pt x="604" y="667"/>
                </a:lnTo>
                <a:lnTo>
                  <a:pt x="597" y="661"/>
                </a:lnTo>
                <a:lnTo>
                  <a:pt x="590" y="654"/>
                </a:lnTo>
                <a:lnTo>
                  <a:pt x="584" y="647"/>
                </a:lnTo>
                <a:lnTo>
                  <a:pt x="579" y="640"/>
                </a:lnTo>
                <a:lnTo>
                  <a:pt x="575" y="631"/>
                </a:lnTo>
                <a:lnTo>
                  <a:pt x="573" y="621"/>
                </a:lnTo>
                <a:lnTo>
                  <a:pt x="573" y="611"/>
                </a:lnTo>
                <a:lnTo>
                  <a:pt x="575" y="601"/>
                </a:lnTo>
                <a:lnTo>
                  <a:pt x="578" y="591"/>
                </a:lnTo>
                <a:lnTo>
                  <a:pt x="581" y="582"/>
                </a:lnTo>
                <a:lnTo>
                  <a:pt x="585" y="571"/>
                </a:lnTo>
                <a:lnTo>
                  <a:pt x="586" y="562"/>
                </a:lnTo>
                <a:lnTo>
                  <a:pt x="586" y="557"/>
                </a:lnTo>
                <a:lnTo>
                  <a:pt x="585" y="553"/>
                </a:lnTo>
                <a:lnTo>
                  <a:pt x="583" y="548"/>
                </a:lnTo>
                <a:lnTo>
                  <a:pt x="447" y="548"/>
                </a:lnTo>
                <a:lnTo>
                  <a:pt x="449" y="528"/>
                </a:lnTo>
                <a:lnTo>
                  <a:pt x="449" y="516"/>
                </a:lnTo>
                <a:lnTo>
                  <a:pt x="447" y="505"/>
                </a:lnTo>
                <a:lnTo>
                  <a:pt x="446" y="495"/>
                </a:lnTo>
                <a:lnTo>
                  <a:pt x="444" y="488"/>
                </a:lnTo>
                <a:lnTo>
                  <a:pt x="440" y="482"/>
                </a:lnTo>
                <a:lnTo>
                  <a:pt x="436" y="477"/>
                </a:lnTo>
                <a:lnTo>
                  <a:pt x="429" y="472"/>
                </a:lnTo>
                <a:lnTo>
                  <a:pt x="421" y="467"/>
                </a:lnTo>
                <a:lnTo>
                  <a:pt x="413" y="465"/>
                </a:lnTo>
                <a:lnTo>
                  <a:pt x="406" y="464"/>
                </a:lnTo>
                <a:lnTo>
                  <a:pt x="394" y="463"/>
                </a:lnTo>
                <a:lnTo>
                  <a:pt x="380" y="463"/>
                </a:lnTo>
                <a:lnTo>
                  <a:pt x="367" y="464"/>
                </a:lnTo>
                <a:lnTo>
                  <a:pt x="352" y="465"/>
                </a:lnTo>
                <a:lnTo>
                  <a:pt x="340" y="466"/>
                </a:lnTo>
                <a:lnTo>
                  <a:pt x="326" y="467"/>
                </a:lnTo>
                <a:lnTo>
                  <a:pt x="314" y="466"/>
                </a:lnTo>
                <a:lnTo>
                  <a:pt x="303" y="465"/>
                </a:lnTo>
                <a:lnTo>
                  <a:pt x="287" y="462"/>
                </a:lnTo>
                <a:lnTo>
                  <a:pt x="276" y="458"/>
                </a:lnTo>
                <a:lnTo>
                  <a:pt x="266" y="452"/>
                </a:lnTo>
                <a:lnTo>
                  <a:pt x="260" y="445"/>
                </a:lnTo>
                <a:lnTo>
                  <a:pt x="254" y="438"/>
                </a:lnTo>
                <a:lnTo>
                  <a:pt x="250" y="429"/>
                </a:lnTo>
                <a:lnTo>
                  <a:pt x="249" y="419"/>
                </a:lnTo>
                <a:lnTo>
                  <a:pt x="249" y="407"/>
                </a:lnTo>
                <a:lnTo>
                  <a:pt x="250" y="398"/>
                </a:lnTo>
                <a:lnTo>
                  <a:pt x="249" y="388"/>
                </a:lnTo>
                <a:lnTo>
                  <a:pt x="246" y="378"/>
                </a:lnTo>
                <a:lnTo>
                  <a:pt x="244" y="372"/>
                </a:lnTo>
                <a:lnTo>
                  <a:pt x="241" y="366"/>
                </a:lnTo>
                <a:lnTo>
                  <a:pt x="236" y="362"/>
                </a:lnTo>
                <a:lnTo>
                  <a:pt x="232" y="358"/>
                </a:lnTo>
                <a:lnTo>
                  <a:pt x="223" y="354"/>
                </a:lnTo>
                <a:lnTo>
                  <a:pt x="212" y="350"/>
                </a:lnTo>
                <a:lnTo>
                  <a:pt x="200" y="347"/>
                </a:lnTo>
                <a:lnTo>
                  <a:pt x="186" y="344"/>
                </a:lnTo>
                <a:lnTo>
                  <a:pt x="172" y="342"/>
                </a:lnTo>
                <a:lnTo>
                  <a:pt x="157" y="340"/>
                </a:lnTo>
                <a:lnTo>
                  <a:pt x="146" y="337"/>
                </a:lnTo>
                <a:lnTo>
                  <a:pt x="135" y="334"/>
                </a:lnTo>
                <a:lnTo>
                  <a:pt x="124" y="330"/>
                </a:lnTo>
                <a:lnTo>
                  <a:pt x="116" y="325"/>
                </a:lnTo>
                <a:lnTo>
                  <a:pt x="107" y="318"/>
                </a:lnTo>
                <a:lnTo>
                  <a:pt x="100" y="312"/>
                </a:lnTo>
                <a:lnTo>
                  <a:pt x="95" y="305"/>
                </a:lnTo>
                <a:lnTo>
                  <a:pt x="91" y="296"/>
                </a:lnTo>
                <a:lnTo>
                  <a:pt x="89" y="287"/>
                </a:lnTo>
                <a:lnTo>
                  <a:pt x="89" y="278"/>
                </a:lnTo>
                <a:lnTo>
                  <a:pt x="91" y="270"/>
                </a:lnTo>
                <a:lnTo>
                  <a:pt x="95" y="259"/>
                </a:lnTo>
                <a:lnTo>
                  <a:pt x="98" y="247"/>
                </a:lnTo>
                <a:lnTo>
                  <a:pt x="100" y="237"/>
                </a:lnTo>
                <a:lnTo>
                  <a:pt x="103" y="227"/>
                </a:lnTo>
                <a:lnTo>
                  <a:pt x="104" y="216"/>
                </a:lnTo>
                <a:lnTo>
                  <a:pt x="103" y="205"/>
                </a:lnTo>
                <a:lnTo>
                  <a:pt x="100" y="196"/>
                </a:lnTo>
                <a:lnTo>
                  <a:pt x="96" y="186"/>
                </a:lnTo>
                <a:lnTo>
                  <a:pt x="90" y="177"/>
                </a:lnTo>
                <a:lnTo>
                  <a:pt x="84" y="170"/>
                </a:lnTo>
                <a:lnTo>
                  <a:pt x="80" y="165"/>
                </a:lnTo>
                <a:lnTo>
                  <a:pt x="74" y="160"/>
                </a:lnTo>
                <a:lnTo>
                  <a:pt x="67" y="155"/>
                </a:lnTo>
                <a:lnTo>
                  <a:pt x="61" y="151"/>
                </a:lnTo>
                <a:lnTo>
                  <a:pt x="52" y="148"/>
                </a:lnTo>
                <a:lnTo>
                  <a:pt x="44" y="145"/>
                </a:lnTo>
                <a:lnTo>
                  <a:pt x="33" y="143"/>
                </a:lnTo>
                <a:lnTo>
                  <a:pt x="21" y="142"/>
                </a:lnTo>
                <a:lnTo>
                  <a:pt x="11" y="142"/>
                </a:lnTo>
                <a:lnTo>
                  <a:pt x="0" y="142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057400"/>
            <a:ext cx="1773000" cy="1752480"/>
          </a:xfrm>
          <a:custGeom>
            <a:avLst/>
            <a:gdLst/>
            <a:ahLst/>
            <a:rect l="l" t="t" r="r" b="b"/>
            <a:pathLst>
              <a:path w="1117" h="1104">
                <a:moveTo>
                  <a:pt x="425" y="230"/>
                </a:moveTo>
                <a:lnTo>
                  <a:pt x="436" y="218"/>
                </a:lnTo>
                <a:lnTo>
                  <a:pt x="444" y="206"/>
                </a:lnTo>
                <a:lnTo>
                  <a:pt x="448" y="193"/>
                </a:lnTo>
                <a:lnTo>
                  <a:pt x="448" y="176"/>
                </a:lnTo>
                <a:lnTo>
                  <a:pt x="443" y="156"/>
                </a:lnTo>
                <a:lnTo>
                  <a:pt x="439" y="140"/>
                </a:lnTo>
                <a:lnTo>
                  <a:pt x="433" y="119"/>
                </a:lnTo>
                <a:lnTo>
                  <a:pt x="430" y="97"/>
                </a:lnTo>
                <a:lnTo>
                  <a:pt x="433" y="84"/>
                </a:lnTo>
                <a:lnTo>
                  <a:pt x="437" y="67"/>
                </a:lnTo>
                <a:lnTo>
                  <a:pt x="446" y="50"/>
                </a:lnTo>
                <a:lnTo>
                  <a:pt x="458" y="34"/>
                </a:lnTo>
                <a:lnTo>
                  <a:pt x="474" y="20"/>
                </a:lnTo>
                <a:lnTo>
                  <a:pt x="488" y="10"/>
                </a:lnTo>
                <a:lnTo>
                  <a:pt x="507" y="4"/>
                </a:lnTo>
                <a:lnTo>
                  <a:pt x="529" y="1"/>
                </a:lnTo>
                <a:lnTo>
                  <a:pt x="554" y="0"/>
                </a:lnTo>
                <a:lnTo>
                  <a:pt x="587" y="0"/>
                </a:lnTo>
                <a:lnTo>
                  <a:pt x="613" y="2"/>
                </a:lnTo>
                <a:lnTo>
                  <a:pt x="628" y="7"/>
                </a:lnTo>
                <a:lnTo>
                  <a:pt x="639" y="13"/>
                </a:lnTo>
                <a:lnTo>
                  <a:pt x="651" y="20"/>
                </a:lnTo>
                <a:lnTo>
                  <a:pt x="663" y="31"/>
                </a:lnTo>
                <a:lnTo>
                  <a:pt x="674" y="45"/>
                </a:lnTo>
                <a:lnTo>
                  <a:pt x="683" y="58"/>
                </a:lnTo>
                <a:lnTo>
                  <a:pt x="688" y="69"/>
                </a:lnTo>
                <a:lnTo>
                  <a:pt x="691" y="88"/>
                </a:lnTo>
                <a:lnTo>
                  <a:pt x="691" y="104"/>
                </a:lnTo>
                <a:lnTo>
                  <a:pt x="688" y="121"/>
                </a:lnTo>
                <a:lnTo>
                  <a:pt x="685" y="133"/>
                </a:lnTo>
                <a:lnTo>
                  <a:pt x="681" y="154"/>
                </a:lnTo>
                <a:lnTo>
                  <a:pt x="674" y="175"/>
                </a:lnTo>
                <a:lnTo>
                  <a:pt x="672" y="188"/>
                </a:lnTo>
                <a:lnTo>
                  <a:pt x="676" y="201"/>
                </a:lnTo>
                <a:lnTo>
                  <a:pt x="681" y="211"/>
                </a:lnTo>
                <a:lnTo>
                  <a:pt x="691" y="223"/>
                </a:lnTo>
                <a:lnTo>
                  <a:pt x="705" y="234"/>
                </a:lnTo>
                <a:lnTo>
                  <a:pt x="718" y="242"/>
                </a:lnTo>
                <a:lnTo>
                  <a:pt x="737" y="249"/>
                </a:lnTo>
                <a:lnTo>
                  <a:pt x="756" y="254"/>
                </a:lnTo>
                <a:lnTo>
                  <a:pt x="774" y="258"/>
                </a:lnTo>
                <a:lnTo>
                  <a:pt x="794" y="260"/>
                </a:lnTo>
                <a:lnTo>
                  <a:pt x="814" y="265"/>
                </a:lnTo>
                <a:lnTo>
                  <a:pt x="829" y="270"/>
                </a:lnTo>
                <a:lnTo>
                  <a:pt x="841" y="275"/>
                </a:lnTo>
                <a:lnTo>
                  <a:pt x="851" y="281"/>
                </a:lnTo>
                <a:lnTo>
                  <a:pt x="858" y="288"/>
                </a:lnTo>
                <a:lnTo>
                  <a:pt x="863" y="297"/>
                </a:lnTo>
                <a:lnTo>
                  <a:pt x="867" y="307"/>
                </a:lnTo>
                <a:lnTo>
                  <a:pt x="869" y="317"/>
                </a:lnTo>
                <a:lnTo>
                  <a:pt x="871" y="325"/>
                </a:lnTo>
                <a:lnTo>
                  <a:pt x="871" y="337"/>
                </a:lnTo>
                <a:lnTo>
                  <a:pt x="869" y="350"/>
                </a:lnTo>
                <a:lnTo>
                  <a:pt x="869" y="361"/>
                </a:lnTo>
                <a:lnTo>
                  <a:pt x="872" y="373"/>
                </a:lnTo>
                <a:lnTo>
                  <a:pt x="878" y="384"/>
                </a:lnTo>
                <a:lnTo>
                  <a:pt x="885" y="394"/>
                </a:lnTo>
                <a:lnTo>
                  <a:pt x="893" y="401"/>
                </a:lnTo>
                <a:lnTo>
                  <a:pt x="905" y="408"/>
                </a:lnTo>
                <a:lnTo>
                  <a:pt x="916" y="413"/>
                </a:lnTo>
                <a:lnTo>
                  <a:pt x="933" y="416"/>
                </a:lnTo>
                <a:lnTo>
                  <a:pt x="948" y="418"/>
                </a:lnTo>
                <a:lnTo>
                  <a:pt x="962" y="419"/>
                </a:lnTo>
                <a:lnTo>
                  <a:pt x="978" y="418"/>
                </a:lnTo>
                <a:lnTo>
                  <a:pt x="997" y="416"/>
                </a:lnTo>
                <a:lnTo>
                  <a:pt x="1012" y="415"/>
                </a:lnTo>
                <a:lnTo>
                  <a:pt x="1026" y="414"/>
                </a:lnTo>
                <a:lnTo>
                  <a:pt x="1040" y="413"/>
                </a:lnTo>
                <a:lnTo>
                  <a:pt x="1057" y="414"/>
                </a:lnTo>
                <a:lnTo>
                  <a:pt x="1066" y="415"/>
                </a:lnTo>
                <a:lnTo>
                  <a:pt x="1076" y="418"/>
                </a:lnTo>
                <a:lnTo>
                  <a:pt x="1086" y="423"/>
                </a:lnTo>
                <a:lnTo>
                  <a:pt x="1096" y="430"/>
                </a:lnTo>
                <a:lnTo>
                  <a:pt x="1104" y="437"/>
                </a:lnTo>
                <a:lnTo>
                  <a:pt x="1110" y="449"/>
                </a:lnTo>
                <a:lnTo>
                  <a:pt x="1113" y="459"/>
                </a:lnTo>
                <a:lnTo>
                  <a:pt x="1114" y="472"/>
                </a:lnTo>
                <a:lnTo>
                  <a:pt x="1116" y="495"/>
                </a:lnTo>
                <a:lnTo>
                  <a:pt x="1115" y="521"/>
                </a:lnTo>
                <a:lnTo>
                  <a:pt x="1116" y="550"/>
                </a:lnTo>
                <a:lnTo>
                  <a:pt x="1113" y="582"/>
                </a:lnTo>
                <a:lnTo>
                  <a:pt x="1111" y="605"/>
                </a:lnTo>
                <a:lnTo>
                  <a:pt x="1108" y="623"/>
                </a:lnTo>
                <a:lnTo>
                  <a:pt x="1104" y="633"/>
                </a:lnTo>
                <a:lnTo>
                  <a:pt x="1097" y="643"/>
                </a:lnTo>
                <a:lnTo>
                  <a:pt x="1089" y="649"/>
                </a:lnTo>
                <a:lnTo>
                  <a:pt x="1079" y="655"/>
                </a:lnTo>
                <a:lnTo>
                  <a:pt x="1066" y="658"/>
                </a:lnTo>
                <a:lnTo>
                  <a:pt x="1056" y="660"/>
                </a:lnTo>
                <a:lnTo>
                  <a:pt x="1034" y="661"/>
                </a:lnTo>
                <a:lnTo>
                  <a:pt x="1015" y="660"/>
                </a:lnTo>
                <a:lnTo>
                  <a:pt x="1000" y="658"/>
                </a:lnTo>
                <a:lnTo>
                  <a:pt x="986" y="657"/>
                </a:lnTo>
                <a:lnTo>
                  <a:pt x="970" y="656"/>
                </a:lnTo>
                <a:lnTo>
                  <a:pt x="956" y="656"/>
                </a:lnTo>
                <a:lnTo>
                  <a:pt x="944" y="657"/>
                </a:lnTo>
                <a:lnTo>
                  <a:pt x="931" y="658"/>
                </a:lnTo>
                <a:lnTo>
                  <a:pt x="915" y="662"/>
                </a:lnTo>
                <a:lnTo>
                  <a:pt x="907" y="665"/>
                </a:lnTo>
                <a:lnTo>
                  <a:pt x="899" y="668"/>
                </a:lnTo>
                <a:lnTo>
                  <a:pt x="888" y="674"/>
                </a:lnTo>
                <a:lnTo>
                  <a:pt x="881" y="682"/>
                </a:lnTo>
                <a:lnTo>
                  <a:pt x="876" y="689"/>
                </a:lnTo>
                <a:lnTo>
                  <a:pt x="871" y="698"/>
                </a:lnTo>
                <a:lnTo>
                  <a:pt x="868" y="706"/>
                </a:lnTo>
                <a:lnTo>
                  <a:pt x="867" y="716"/>
                </a:lnTo>
                <a:lnTo>
                  <a:pt x="868" y="726"/>
                </a:lnTo>
                <a:lnTo>
                  <a:pt x="868" y="743"/>
                </a:lnTo>
                <a:lnTo>
                  <a:pt x="867" y="761"/>
                </a:lnTo>
                <a:lnTo>
                  <a:pt x="862" y="775"/>
                </a:lnTo>
                <a:lnTo>
                  <a:pt x="857" y="786"/>
                </a:lnTo>
                <a:lnTo>
                  <a:pt x="849" y="793"/>
                </a:lnTo>
                <a:lnTo>
                  <a:pt x="838" y="800"/>
                </a:lnTo>
                <a:lnTo>
                  <a:pt x="827" y="805"/>
                </a:lnTo>
                <a:lnTo>
                  <a:pt x="814" y="808"/>
                </a:lnTo>
                <a:lnTo>
                  <a:pt x="797" y="811"/>
                </a:lnTo>
                <a:lnTo>
                  <a:pt x="783" y="815"/>
                </a:lnTo>
                <a:lnTo>
                  <a:pt x="767" y="818"/>
                </a:lnTo>
                <a:lnTo>
                  <a:pt x="753" y="820"/>
                </a:lnTo>
                <a:lnTo>
                  <a:pt x="737" y="823"/>
                </a:lnTo>
                <a:lnTo>
                  <a:pt x="725" y="829"/>
                </a:lnTo>
                <a:lnTo>
                  <a:pt x="711" y="834"/>
                </a:lnTo>
                <a:lnTo>
                  <a:pt x="698" y="841"/>
                </a:lnTo>
                <a:lnTo>
                  <a:pt x="688" y="851"/>
                </a:lnTo>
                <a:lnTo>
                  <a:pt x="680" y="862"/>
                </a:lnTo>
                <a:lnTo>
                  <a:pt x="673" y="875"/>
                </a:lnTo>
                <a:lnTo>
                  <a:pt x="671" y="887"/>
                </a:lnTo>
                <a:lnTo>
                  <a:pt x="672" y="900"/>
                </a:lnTo>
                <a:lnTo>
                  <a:pt x="674" y="913"/>
                </a:lnTo>
                <a:lnTo>
                  <a:pt x="679" y="926"/>
                </a:lnTo>
                <a:lnTo>
                  <a:pt x="682" y="941"/>
                </a:lnTo>
                <a:lnTo>
                  <a:pt x="685" y="954"/>
                </a:lnTo>
                <a:lnTo>
                  <a:pt x="688" y="971"/>
                </a:lnTo>
                <a:lnTo>
                  <a:pt x="688" y="989"/>
                </a:lnTo>
                <a:lnTo>
                  <a:pt x="684" y="1006"/>
                </a:lnTo>
                <a:lnTo>
                  <a:pt x="680" y="1019"/>
                </a:lnTo>
                <a:lnTo>
                  <a:pt x="674" y="1032"/>
                </a:lnTo>
                <a:lnTo>
                  <a:pt x="668" y="1045"/>
                </a:lnTo>
                <a:lnTo>
                  <a:pt x="658" y="1061"/>
                </a:lnTo>
                <a:lnTo>
                  <a:pt x="648" y="1071"/>
                </a:lnTo>
                <a:lnTo>
                  <a:pt x="639" y="1078"/>
                </a:lnTo>
                <a:lnTo>
                  <a:pt x="628" y="1087"/>
                </a:lnTo>
                <a:lnTo>
                  <a:pt x="615" y="1094"/>
                </a:lnTo>
                <a:lnTo>
                  <a:pt x="604" y="1098"/>
                </a:lnTo>
                <a:lnTo>
                  <a:pt x="594" y="1101"/>
                </a:lnTo>
                <a:lnTo>
                  <a:pt x="576" y="1102"/>
                </a:lnTo>
                <a:lnTo>
                  <a:pt x="556" y="1103"/>
                </a:lnTo>
                <a:lnTo>
                  <a:pt x="532" y="1102"/>
                </a:lnTo>
                <a:lnTo>
                  <a:pt x="521" y="1102"/>
                </a:lnTo>
                <a:lnTo>
                  <a:pt x="506" y="1100"/>
                </a:lnTo>
                <a:lnTo>
                  <a:pt x="490" y="1096"/>
                </a:lnTo>
                <a:lnTo>
                  <a:pt x="476" y="1089"/>
                </a:lnTo>
                <a:lnTo>
                  <a:pt x="468" y="1083"/>
                </a:lnTo>
                <a:lnTo>
                  <a:pt x="458" y="1074"/>
                </a:lnTo>
                <a:lnTo>
                  <a:pt x="450" y="1066"/>
                </a:lnTo>
                <a:lnTo>
                  <a:pt x="442" y="1056"/>
                </a:lnTo>
                <a:lnTo>
                  <a:pt x="436" y="1046"/>
                </a:lnTo>
                <a:lnTo>
                  <a:pt x="431" y="1033"/>
                </a:lnTo>
                <a:lnTo>
                  <a:pt x="428" y="1020"/>
                </a:lnTo>
                <a:lnTo>
                  <a:pt x="428" y="1010"/>
                </a:lnTo>
                <a:lnTo>
                  <a:pt x="428" y="996"/>
                </a:lnTo>
                <a:lnTo>
                  <a:pt x="428" y="984"/>
                </a:lnTo>
                <a:lnTo>
                  <a:pt x="433" y="971"/>
                </a:lnTo>
                <a:lnTo>
                  <a:pt x="436" y="956"/>
                </a:lnTo>
                <a:lnTo>
                  <a:pt x="441" y="942"/>
                </a:lnTo>
                <a:lnTo>
                  <a:pt x="443" y="930"/>
                </a:lnTo>
                <a:lnTo>
                  <a:pt x="444" y="918"/>
                </a:lnTo>
                <a:lnTo>
                  <a:pt x="443" y="909"/>
                </a:lnTo>
                <a:lnTo>
                  <a:pt x="441" y="899"/>
                </a:lnTo>
                <a:lnTo>
                  <a:pt x="434" y="887"/>
                </a:lnTo>
                <a:lnTo>
                  <a:pt x="427" y="880"/>
                </a:lnTo>
                <a:lnTo>
                  <a:pt x="418" y="871"/>
                </a:lnTo>
                <a:lnTo>
                  <a:pt x="409" y="865"/>
                </a:lnTo>
                <a:lnTo>
                  <a:pt x="399" y="858"/>
                </a:lnTo>
                <a:lnTo>
                  <a:pt x="385" y="854"/>
                </a:lnTo>
                <a:lnTo>
                  <a:pt x="373" y="851"/>
                </a:lnTo>
                <a:lnTo>
                  <a:pt x="357" y="847"/>
                </a:lnTo>
                <a:lnTo>
                  <a:pt x="343" y="846"/>
                </a:lnTo>
                <a:lnTo>
                  <a:pt x="330" y="843"/>
                </a:lnTo>
                <a:lnTo>
                  <a:pt x="315" y="840"/>
                </a:lnTo>
                <a:lnTo>
                  <a:pt x="302" y="835"/>
                </a:lnTo>
                <a:lnTo>
                  <a:pt x="286" y="831"/>
                </a:lnTo>
                <a:lnTo>
                  <a:pt x="274" y="826"/>
                </a:lnTo>
                <a:lnTo>
                  <a:pt x="264" y="819"/>
                </a:lnTo>
                <a:lnTo>
                  <a:pt x="256" y="810"/>
                </a:lnTo>
                <a:lnTo>
                  <a:pt x="251" y="798"/>
                </a:lnTo>
                <a:lnTo>
                  <a:pt x="247" y="782"/>
                </a:lnTo>
                <a:lnTo>
                  <a:pt x="246" y="770"/>
                </a:lnTo>
                <a:lnTo>
                  <a:pt x="247" y="756"/>
                </a:lnTo>
                <a:lnTo>
                  <a:pt x="249" y="745"/>
                </a:lnTo>
                <a:lnTo>
                  <a:pt x="247" y="731"/>
                </a:lnTo>
                <a:lnTo>
                  <a:pt x="242" y="721"/>
                </a:lnTo>
                <a:lnTo>
                  <a:pt x="235" y="710"/>
                </a:lnTo>
                <a:lnTo>
                  <a:pt x="227" y="703"/>
                </a:lnTo>
                <a:lnTo>
                  <a:pt x="217" y="696"/>
                </a:lnTo>
                <a:lnTo>
                  <a:pt x="204" y="691"/>
                </a:lnTo>
                <a:lnTo>
                  <a:pt x="189" y="687"/>
                </a:lnTo>
                <a:lnTo>
                  <a:pt x="174" y="685"/>
                </a:lnTo>
                <a:lnTo>
                  <a:pt x="161" y="684"/>
                </a:lnTo>
                <a:lnTo>
                  <a:pt x="146" y="684"/>
                </a:lnTo>
                <a:lnTo>
                  <a:pt x="133" y="685"/>
                </a:lnTo>
                <a:lnTo>
                  <a:pt x="120" y="686"/>
                </a:lnTo>
                <a:lnTo>
                  <a:pt x="107" y="688"/>
                </a:lnTo>
                <a:lnTo>
                  <a:pt x="94" y="689"/>
                </a:lnTo>
                <a:lnTo>
                  <a:pt x="72" y="689"/>
                </a:lnTo>
                <a:lnTo>
                  <a:pt x="58" y="688"/>
                </a:lnTo>
                <a:lnTo>
                  <a:pt x="43" y="685"/>
                </a:lnTo>
                <a:lnTo>
                  <a:pt x="33" y="680"/>
                </a:lnTo>
                <a:lnTo>
                  <a:pt x="22" y="673"/>
                </a:lnTo>
                <a:lnTo>
                  <a:pt x="14" y="664"/>
                </a:lnTo>
                <a:lnTo>
                  <a:pt x="9" y="655"/>
                </a:lnTo>
                <a:lnTo>
                  <a:pt x="3" y="637"/>
                </a:lnTo>
                <a:lnTo>
                  <a:pt x="2" y="618"/>
                </a:lnTo>
                <a:lnTo>
                  <a:pt x="1" y="599"/>
                </a:lnTo>
                <a:lnTo>
                  <a:pt x="0" y="575"/>
                </a:lnTo>
                <a:lnTo>
                  <a:pt x="2" y="555"/>
                </a:lnTo>
                <a:lnTo>
                  <a:pt x="3" y="533"/>
                </a:lnTo>
                <a:lnTo>
                  <a:pt x="3" y="513"/>
                </a:lnTo>
                <a:lnTo>
                  <a:pt x="5" y="493"/>
                </a:lnTo>
                <a:lnTo>
                  <a:pt x="8" y="477"/>
                </a:lnTo>
                <a:lnTo>
                  <a:pt x="10" y="460"/>
                </a:lnTo>
                <a:lnTo>
                  <a:pt x="14" y="447"/>
                </a:lnTo>
                <a:lnTo>
                  <a:pt x="19" y="438"/>
                </a:lnTo>
                <a:lnTo>
                  <a:pt x="27" y="430"/>
                </a:lnTo>
                <a:lnTo>
                  <a:pt x="35" y="424"/>
                </a:lnTo>
                <a:lnTo>
                  <a:pt x="45" y="418"/>
                </a:lnTo>
                <a:lnTo>
                  <a:pt x="55" y="416"/>
                </a:lnTo>
                <a:lnTo>
                  <a:pt x="67" y="414"/>
                </a:lnTo>
                <a:lnTo>
                  <a:pt x="83" y="413"/>
                </a:lnTo>
                <a:lnTo>
                  <a:pt x="96" y="414"/>
                </a:lnTo>
                <a:lnTo>
                  <a:pt x="116" y="416"/>
                </a:lnTo>
                <a:lnTo>
                  <a:pt x="132" y="417"/>
                </a:lnTo>
                <a:lnTo>
                  <a:pt x="146" y="418"/>
                </a:lnTo>
                <a:lnTo>
                  <a:pt x="165" y="419"/>
                </a:lnTo>
                <a:lnTo>
                  <a:pt x="185" y="416"/>
                </a:lnTo>
                <a:lnTo>
                  <a:pt x="202" y="413"/>
                </a:lnTo>
                <a:lnTo>
                  <a:pt x="217" y="408"/>
                </a:lnTo>
                <a:lnTo>
                  <a:pt x="228" y="402"/>
                </a:lnTo>
                <a:lnTo>
                  <a:pt x="238" y="394"/>
                </a:lnTo>
                <a:lnTo>
                  <a:pt x="246" y="383"/>
                </a:lnTo>
                <a:lnTo>
                  <a:pt x="251" y="372"/>
                </a:lnTo>
                <a:lnTo>
                  <a:pt x="253" y="360"/>
                </a:lnTo>
                <a:lnTo>
                  <a:pt x="252" y="351"/>
                </a:lnTo>
                <a:lnTo>
                  <a:pt x="251" y="335"/>
                </a:lnTo>
                <a:lnTo>
                  <a:pt x="252" y="318"/>
                </a:lnTo>
                <a:lnTo>
                  <a:pt x="256" y="306"/>
                </a:lnTo>
                <a:lnTo>
                  <a:pt x="260" y="294"/>
                </a:lnTo>
                <a:lnTo>
                  <a:pt x="266" y="285"/>
                </a:lnTo>
                <a:lnTo>
                  <a:pt x="278" y="277"/>
                </a:lnTo>
                <a:lnTo>
                  <a:pt x="291" y="270"/>
                </a:lnTo>
                <a:lnTo>
                  <a:pt x="308" y="266"/>
                </a:lnTo>
                <a:lnTo>
                  <a:pt x="324" y="262"/>
                </a:lnTo>
                <a:lnTo>
                  <a:pt x="338" y="259"/>
                </a:lnTo>
                <a:lnTo>
                  <a:pt x="355" y="256"/>
                </a:lnTo>
                <a:lnTo>
                  <a:pt x="372" y="253"/>
                </a:lnTo>
                <a:lnTo>
                  <a:pt x="391" y="249"/>
                </a:lnTo>
                <a:lnTo>
                  <a:pt x="409" y="241"/>
                </a:lnTo>
                <a:lnTo>
                  <a:pt x="425" y="23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1981080"/>
            <a:ext cx="1525680" cy="1176480"/>
          </a:xfrm>
          <a:custGeom>
            <a:avLst/>
            <a:gdLst/>
            <a:ahLst/>
            <a:rect l="l" t="t" r="r" b="b"/>
            <a:pathLst>
              <a:path w="961" h="741">
                <a:moveTo>
                  <a:pt x="960" y="184"/>
                </a:moveTo>
                <a:lnTo>
                  <a:pt x="960" y="0"/>
                </a:lnTo>
                <a:lnTo>
                  <a:pt x="0" y="0"/>
                </a:lnTo>
                <a:lnTo>
                  <a:pt x="1" y="740"/>
                </a:lnTo>
                <a:lnTo>
                  <a:pt x="86" y="740"/>
                </a:lnTo>
                <a:lnTo>
                  <a:pt x="90" y="726"/>
                </a:lnTo>
                <a:lnTo>
                  <a:pt x="90" y="716"/>
                </a:lnTo>
                <a:lnTo>
                  <a:pt x="88" y="701"/>
                </a:lnTo>
                <a:lnTo>
                  <a:pt x="83" y="686"/>
                </a:lnTo>
                <a:lnTo>
                  <a:pt x="78" y="668"/>
                </a:lnTo>
                <a:lnTo>
                  <a:pt x="75" y="654"/>
                </a:lnTo>
                <a:lnTo>
                  <a:pt x="75" y="642"/>
                </a:lnTo>
                <a:lnTo>
                  <a:pt x="77" y="627"/>
                </a:lnTo>
                <a:lnTo>
                  <a:pt x="81" y="614"/>
                </a:lnTo>
                <a:lnTo>
                  <a:pt x="90" y="601"/>
                </a:lnTo>
                <a:lnTo>
                  <a:pt x="101" y="590"/>
                </a:lnTo>
                <a:lnTo>
                  <a:pt x="113" y="580"/>
                </a:lnTo>
                <a:lnTo>
                  <a:pt x="126" y="573"/>
                </a:lnTo>
                <a:lnTo>
                  <a:pt x="142" y="567"/>
                </a:lnTo>
                <a:lnTo>
                  <a:pt x="156" y="564"/>
                </a:lnTo>
                <a:lnTo>
                  <a:pt x="176" y="564"/>
                </a:lnTo>
                <a:lnTo>
                  <a:pt x="199" y="565"/>
                </a:lnTo>
                <a:lnTo>
                  <a:pt x="214" y="567"/>
                </a:lnTo>
                <a:lnTo>
                  <a:pt x="227" y="571"/>
                </a:lnTo>
                <a:lnTo>
                  <a:pt x="240" y="578"/>
                </a:lnTo>
                <a:lnTo>
                  <a:pt x="255" y="590"/>
                </a:lnTo>
                <a:lnTo>
                  <a:pt x="265" y="601"/>
                </a:lnTo>
                <a:lnTo>
                  <a:pt x="274" y="612"/>
                </a:lnTo>
                <a:lnTo>
                  <a:pt x="279" y="625"/>
                </a:lnTo>
                <a:lnTo>
                  <a:pt x="283" y="637"/>
                </a:lnTo>
                <a:lnTo>
                  <a:pt x="283" y="650"/>
                </a:lnTo>
                <a:lnTo>
                  <a:pt x="281" y="664"/>
                </a:lnTo>
                <a:lnTo>
                  <a:pt x="278" y="676"/>
                </a:lnTo>
                <a:lnTo>
                  <a:pt x="274" y="688"/>
                </a:lnTo>
                <a:lnTo>
                  <a:pt x="270" y="701"/>
                </a:lnTo>
                <a:lnTo>
                  <a:pt x="268" y="713"/>
                </a:lnTo>
                <a:lnTo>
                  <a:pt x="268" y="724"/>
                </a:lnTo>
                <a:lnTo>
                  <a:pt x="271" y="737"/>
                </a:lnTo>
                <a:lnTo>
                  <a:pt x="432" y="737"/>
                </a:lnTo>
                <a:lnTo>
                  <a:pt x="430" y="711"/>
                </a:lnTo>
                <a:lnTo>
                  <a:pt x="432" y="692"/>
                </a:lnTo>
                <a:lnTo>
                  <a:pt x="432" y="678"/>
                </a:lnTo>
                <a:lnTo>
                  <a:pt x="433" y="664"/>
                </a:lnTo>
                <a:lnTo>
                  <a:pt x="434" y="650"/>
                </a:lnTo>
                <a:lnTo>
                  <a:pt x="438" y="636"/>
                </a:lnTo>
                <a:lnTo>
                  <a:pt x="442" y="627"/>
                </a:lnTo>
                <a:lnTo>
                  <a:pt x="448" y="618"/>
                </a:lnTo>
                <a:lnTo>
                  <a:pt x="456" y="611"/>
                </a:lnTo>
                <a:lnTo>
                  <a:pt x="465" y="605"/>
                </a:lnTo>
                <a:lnTo>
                  <a:pt x="476" y="602"/>
                </a:lnTo>
                <a:lnTo>
                  <a:pt x="487" y="601"/>
                </a:lnTo>
                <a:lnTo>
                  <a:pt x="498" y="600"/>
                </a:lnTo>
                <a:lnTo>
                  <a:pt x="512" y="600"/>
                </a:lnTo>
                <a:lnTo>
                  <a:pt x="526" y="601"/>
                </a:lnTo>
                <a:lnTo>
                  <a:pt x="536" y="602"/>
                </a:lnTo>
                <a:lnTo>
                  <a:pt x="550" y="603"/>
                </a:lnTo>
                <a:lnTo>
                  <a:pt x="565" y="605"/>
                </a:lnTo>
                <a:lnTo>
                  <a:pt x="582" y="605"/>
                </a:lnTo>
                <a:lnTo>
                  <a:pt x="596" y="603"/>
                </a:lnTo>
                <a:lnTo>
                  <a:pt x="610" y="601"/>
                </a:lnTo>
                <a:lnTo>
                  <a:pt x="625" y="598"/>
                </a:lnTo>
                <a:lnTo>
                  <a:pt x="636" y="592"/>
                </a:lnTo>
                <a:lnTo>
                  <a:pt x="647" y="585"/>
                </a:lnTo>
                <a:lnTo>
                  <a:pt x="655" y="575"/>
                </a:lnTo>
                <a:lnTo>
                  <a:pt x="662" y="565"/>
                </a:lnTo>
                <a:lnTo>
                  <a:pt x="666" y="555"/>
                </a:lnTo>
                <a:lnTo>
                  <a:pt x="667" y="543"/>
                </a:lnTo>
                <a:lnTo>
                  <a:pt x="666" y="531"/>
                </a:lnTo>
                <a:lnTo>
                  <a:pt x="665" y="519"/>
                </a:lnTo>
                <a:lnTo>
                  <a:pt x="666" y="505"/>
                </a:lnTo>
                <a:lnTo>
                  <a:pt x="668" y="495"/>
                </a:lnTo>
                <a:lnTo>
                  <a:pt x="672" y="484"/>
                </a:lnTo>
                <a:lnTo>
                  <a:pt x="676" y="474"/>
                </a:lnTo>
                <a:lnTo>
                  <a:pt x="683" y="467"/>
                </a:lnTo>
                <a:lnTo>
                  <a:pt x="694" y="460"/>
                </a:lnTo>
                <a:lnTo>
                  <a:pt x="707" y="455"/>
                </a:lnTo>
                <a:lnTo>
                  <a:pt x="720" y="451"/>
                </a:lnTo>
                <a:lnTo>
                  <a:pt x="733" y="448"/>
                </a:lnTo>
                <a:lnTo>
                  <a:pt x="746" y="445"/>
                </a:lnTo>
                <a:lnTo>
                  <a:pt x="764" y="442"/>
                </a:lnTo>
                <a:lnTo>
                  <a:pt x="777" y="439"/>
                </a:lnTo>
                <a:lnTo>
                  <a:pt x="791" y="435"/>
                </a:lnTo>
                <a:lnTo>
                  <a:pt x="802" y="431"/>
                </a:lnTo>
                <a:lnTo>
                  <a:pt x="814" y="427"/>
                </a:lnTo>
                <a:lnTo>
                  <a:pt x="823" y="420"/>
                </a:lnTo>
                <a:lnTo>
                  <a:pt x="832" y="414"/>
                </a:lnTo>
                <a:lnTo>
                  <a:pt x="841" y="404"/>
                </a:lnTo>
                <a:lnTo>
                  <a:pt x="846" y="394"/>
                </a:lnTo>
                <a:lnTo>
                  <a:pt x="851" y="383"/>
                </a:lnTo>
                <a:lnTo>
                  <a:pt x="854" y="369"/>
                </a:lnTo>
                <a:lnTo>
                  <a:pt x="852" y="357"/>
                </a:lnTo>
                <a:lnTo>
                  <a:pt x="851" y="345"/>
                </a:lnTo>
                <a:lnTo>
                  <a:pt x="846" y="330"/>
                </a:lnTo>
                <a:lnTo>
                  <a:pt x="842" y="313"/>
                </a:lnTo>
                <a:lnTo>
                  <a:pt x="838" y="298"/>
                </a:lnTo>
                <a:lnTo>
                  <a:pt x="837" y="287"/>
                </a:lnTo>
                <a:lnTo>
                  <a:pt x="837" y="276"/>
                </a:lnTo>
                <a:lnTo>
                  <a:pt x="839" y="261"/>
                </a:lnTo>
                <a:lnTo>
                  <a:pt x="843" y="248"/>
                </a:lnTo>
                <a:lnTo>
                  <a:pt x="847" y="239"/>
                </a:lnTo>
                <a:lnTo>
                  <a:pt x="853" y="229"/>
                </a:lnTo>
                <a:lnTo>
                  <a:pt x="861" y="219"/>
                </a:lnTo>
                <a:lnTo>
                  <a:pt x="870" y="209"/>
                </a:lnTo>
                <a:lnTo>
                  <a:pt x="882" y="200"/>
                </a:lnTo>
                <a:lnTo>
                  <a:pt x="895" y="193"/>
                </a:lnTo>
                <a:lnTo>
                  <a:pt x="906" y="189"/>
                </a:lnTo>
                <a:lnTo>
                  <a:pt x="918" y="186"/>
                </a:lnTo>
                <a:lnTo>
                  <a:pt x="930" y="184"/>
                </a:lnTo>
                <a:lnTo>
                  <a:pt x="945" y="184"/>
                </a:lnTo>
                <a:lnTo>
                  <a:pt x="960" y="184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657600"/>
            <a:ext cx="1363680" cy="1301760"/>
          </a:xfrm>
          <a:custGeom>
            <a:avLst/>
            <a:gdLst/>
            <a:ahLst/>
            <a:rect l="l" t="t" r="r" b="b"/>
            <a:pathLst>
              <a:path w="859" h="820">
                <a:moveTo>
                  <a:pt x="858" y="674"/>
                </a:moveTo>
                <a:lnTo>
                  <a:pt x="858" y="819"/>
                </a:lnTo>
                <a:lnTo>
                  <a:pt x="1" y="819"/>
                </a:lnTo>
                <a:lnTo>
                  <a:pt x="0" y="165"/>
                </a:lnTo>
                <a:lnTo>
                  <a:pt x="74" y="165"/>
                </a:lnTo>
                <a:lnTo>
                  <a:pt x="77" y="159"/>
                </a:lnTo>
                <a:lnTo>
                  <a:pt x="80" y="151"/>
                </a:lnTo>
                <a:lnTo>
                  <a:pt x="80" y="145"/>
                </a:lnTo>
                <a:lnTo>
                  <a:pt x="79" y="137"/>
                </a:lnTo>
                <a:lnTo>
                  <a:pt x="76" y="126"/>
                </a:lnTo>
                <a:lnTo>
                  <a:pt x="73" y="113"/>
                </a:lnTo>
                <a:lnTo>
                  <a:pt x="70" y="104"/>
                </a:lnTo>
                <a:lnTo>
                  <a:pt x="67" y="93"/>
                </a:lnTo>
                <a:lnTo>
                  <a:pt x="66" y="83"/>
                </a:lnTo>
                <a:lnTo>
                  <a:pt x="66" y="73"/>
                </a:lnTo>
                <a:lnTo>
                  <a:pt x="67" y="64"/>
                </a:lnTo>
                <a:lnTo>
                  <a:pt x="70" y="53"/>
                </a:lnTo>
                <a:lnTo>
                  <a:pt x="74" y="44"/>
                </a:lnTo>
                <a:lnTo>
                  <a:pt x="80" y="36"/>
                </a:lnTo>
                <a:lnTo>
                  <a:pt x="88" y="28"/>
                </a:lnTo>
                <a:lnTo>
                  <a:pt x="95" y="21"/>
                </a:lnTo>
                <a:lnTo>
                  <a:pt x="103" y="15"/>
                </a:lnTo>
                <a:lnTo>
                  <a:pt x="112" y="9"/>
                </a:lnTo>
                <a:lnTo>
                  <a:pt x="123" y="5"/>
                </a:lnTo>
                <a:lnTo>
                  <a:pt x="135" y="2"/>
                </a:lnTo>
                <a:lnTo>
                  <a:pt x="147" y="1"/>
                </a:lnTo>
                <a:lnTo>
                  <a:pt x="158" y="0"/>
                </a:lnTo>
                <a:lnTo>
                  <a:pt x="169" y="0"/>
                </a:lnTo>
                <a:lnTo>
                  <a:pt x="179" y="1"/>
                </a:lnTo>
                <a:lnTo>
                  <a:pt x="188" y="2"/>
                </a:lnTo>
                <a:lnTo>
                  <a:pt x="197" y="5"/>
                </a:lnTo>
                <a:lnTo>
                  <a:pt x="207" y="8"/>
                </a:lnTo>
                <a:lnTo>
                  <a:pt x="214" y="12"/>
                </a:lnTo>
                <a:lnTo>
                  <a:pt x="222" y="18"/>
                </a:lnTo>
                <a:lnTo>
                  <a:pt x="230" y="26"/>
                </a:lnTo>
                <a:lnTo>
                  <a:pt x="237" y="34"/>
                </a:lnTo>
                <a:lnTo>
                  <a:pt x="244" y="42"/>
                </a:lnTo>
                <a:lnTo>
                  <a:pt x="249" y="50"/>
                </a:lnTo>
                <a:lnTo>
                  <a:pt x="253" y="61"/>
                </a:lnTo>
                <a:lnTo>
                  <a:pt x="256" y="74"/>
                </a:lnTo>
                <a:lnTo>
                  <a:pt x="256" y="85"/>
                </a:lnTo>
                <a:lnTo>
                  <a:pt x="253" y="97"/>
                </a:lnTo>
                <a:lnTo>
                  <a:pt x="250" y="109"/>
                </a:lnTo>
                <a:lnTo>
                  <a:pt x="247" y="120"/>
                </a:lnTo>
                <a:lnTo>
                  <a:pt x="243" y="134"/>
                </a:lnTo>
                <a:lnTo>
                  <a:pt x="241" y="144"/>
                </a:lnTo>
                <a:lnTo>
                  <a:pt x="241" y="150"/>
                </a:lnTo>
                <a:lnTo>
                  <a:pt x="243" y="155"/>
                </a:lnTo>
                <a:lnTo>
                  <a:pt x="245" y="161"/>
                </a:lnTo>
                <a:lnTo>
                  <a:pt x="387" y="161"/>
                </a:lnTo>
                <a:lnTo>
                  <a:pt x="384" y="188"/>
                </a:lnTo>
                <a:lnTo>
                  <a:pt x="383" y="204"/>
                </a:lnTo>
                <a:lnTo>
                  <a:pt x="384" y="217"/>
                </a:lnTo>
                <a:lnTo>
                  <a:pt x="385" y="229"/>
                </a:lnTo>
                <a:lnTo>
                  <a:pt x="386" y="242"/>
                </a:lnTo>
                <a:lnTo>
                  <a:pt x="388" y="255"/>
                </a:lnTo>
                <a:lnTo>
                  <a:pt x="393" y="264"/>
                </a:lnTo>
                <a:lnTo>
                  <a:pt x="398" y="272"/>
                </a:lnTo>
                <a:lnTo>
                  <a:pt x="405" y="278"/>
                </a:lnTo>
                <a:lnTo>
                  <a:pt x="414" y="283"/>
                </a:lnTo>
                <a:lnTo>
                  <a:pt x="423" y="287"/>
                </a:lnTo>
                <a:lnTo>
                  <a:pt x="433" y="288"/>
                </a:lnTo>
                <a:lnTo>
                  <a:pt x="444" y="289"/>
                </a:lnTo>
                <a:lnTo>
                  <a:pt x="455" y="289"/>
                </a:lnTo>
                <a:lnTo>
                  <a:pt x="468" y="288"/>
                </a:lnTo>
                <a:lnTo>
                  <a:pt x="477" y="287"/>
                </a:lnTo>
                <a:lnTo>
                  <a:pt x="490" y="285"/>
                </a:lnTo>
                <a:lnTo>
                  <a:pt x="504" y="284"/>
                </a:lnTo>
                <a:lnTo>
                  <a:pt x="519" y="284"/>
                </a:lnTo>
                <a:lnTo>
                  <a:pt x="531" y="285"/>
                </a:lnTo>
                <a:lnTo>
                  <a:pt x="544" y="288"/>
                </a:lnTo>
                <a:lnTo>
                  <a:pt x="557" y="292"/>
                </a:lnTo>
                <a:lnTo>
                  <a:pt x="567" y="296"/>
                </a:lnTo>
                <a:lnTo>
                  <a:pt x="577" y="304"/>
                </a:lnTo>
                <a:lnTo>
                  <a:pt x="584" y="312"/>
                </a:lnTo>
                <a:lnTo>
                  <a:pt x="590" y="321"/>
                </a:lnTo>
                <a:lnTo>
                  <a:pt x="594" y="331"/>
                </a:lnTo>
                <a:lnTo>
                  <a:pt x="595" y="342"/>
                </a:lnTo>
                <a:lnTo>
                  <a:pt x="594" y="353"/>
                </a:lnTo>
                <a:lnTo>
                  <a:pt x="593" y="365"/>
                </a:lnTo>
                <a:lnTo>
                  <a:pt x="594" y="377"/>
                </a:lnTo>
                <a:lnTo>
                  <a:pt x="595" y="387"/>
                </a:lnTo>
                <a:lnTo>
                  <a:pt x="599" y="396"/>
                </a:lnTo>
                <a:lnTo>
                  <a:pt x="604" y="406"/>
                </a:lnTo>
                <a:lnTo>
                  <a:pt x="609" y="412"/>
                </a:lnTo>
                <a:lnTo>
                  <a:pt x="618" y="419"/>
                </a:lnTo>
                <a:lnTo>
                  <a:pt x="630" y="423"/>
                </a:lnTo>
                <a:lnTo>
                  <a:pt x="643" y="427"/>
                </a:lnTo>
                <a:lnTo>
                  <a:pt x="653" y="430"/>
                </a:lnTo>
                <a:lnTo>
                  <a:pt x="666" y="433"/>
                </a:lnTo>
                <a:lnTo>
                  <a:pt x="681" y="436"/>
                </a:lnTo>
                <a:lnTo>
                  <a:pt x="694" y="438"/>
                </a:lnTo>
                <a:lnTo>
                  <a:pt x="706" y="442"/>
                </a:lnTo>
                <a:lnTo>
                  <a:pt x="717" y="445"/>
                </a:lnTo>
                <a:lnTo>
                  <a:pt x="727" y="450"/>
                </a:lnTo>
                <a:lnTo>
                  <a:pt x="735" y="455"/>
                </a:lnTo>
                <a:lnTo>
                  <a:pt x="742" y="461"/>
                </a:lnTo>
                <a:lnTo>
                  <a:pt x="751" y="471"/>
                </a:lnTo>
                <a:lnTo>
                  <a:pt x="756" y="480"/>
                </a:lnTo>
                <a:lnTo>
                  <a:pt x="761" y="489"/>
                </a:lnTo>
                <a:lnTo>
                  <a:pt x="763" y="502"/>
                </a:lnTo>
                <a:lnTo>
                  <a:pt x="761" y="515"/>
                </a:lnTo>
                <a:lnTo>
                  <a:pt x="759" y="526"/>
                </a:lnTo>
                <a:lnTo>
                  <a:pt x="756" y="539"/>
                </a:lnTo>
                <a:lnTo>
                  <a:pt x="752" y="555"/>
                </a:lnTo>
                <a:lnTo>
                  <a:pt x="749" y="569"/>
                </a:lnTo>
                <a:lnTo>
                  <a:pt x="747" y="580"/>
                </a:lnTo>
                <a:lnTo>
                  <a:pt x="747" y="590"/>
                </a:lnTo>
                <a:lnTo>
                  <a:pt x="749" y="604"/>
                </a:lnTo>
                <a:lnTo>
                  <a:pt x="752" y="615"/>
                </a:lnTo>
                <a:lnTo>
                  <a:pt x="757" y="624"/>
                </a:lnTo>
                <a:lnTo>
                  <a:pt x="762" y="633"/>
                </a:lnTo>
                <a:lnTo>
                  <a:pt x="769" y="642"/>
                </a:lnTo>
                <a:lnTo>
                  <a:pt x="778" y="652"/>
                </a:lnTo>
                <a:lnTo>
                  <a:pt x="787" y="660"/>
                </a:lnTo>
                <a:lnTo>
                  <a:pt x="798" y="666"/>
                </a:lnTo>
                <a:lnTo>
                  <a:pt x="809" y="670"/>
                </a:lnTo>
                <a:lnTo>
                  <a:pt x="820" y="673"/>
                </a:lnTo>
                <a:lnTo>
                  <a:pt x="831" y="674"/>
                </a:lnTo>
                <a:lnTo>
                  <a:pt x="845" y="675"/>
                </a:lnTo>
                <a:lnTo>
                  <a:pt x="858" y="674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429000"/>
            <a:ext cx="1449360" cy="1225440"/>
          </a:xfrm>
          <a:custGeom>
            <a:avLst/>
            <a:gdLst/>
            <a:ahLst/>
            <a:rect l="l" t="t" r="r" b="b"/>
            <a:pathLst>
              <a:path w="913" h="772">
                <a:moveTo>
                  <a:pt x="0" y="609"/>
                </a:moveTo>
                <a:lnTo>
                  <a:pt x="0" y="771"/>
                </a:lnTo>
                <a:lnTo>
                  <a:pt x="912" y="771"/>
                </a:lnTo>
                <a:lnTo>
                  <a:pt x="911" y="0"/>
                </a:lnTo>
                <a:lnTo>
                  <a:pt x="830" y="0"/>
                </a:lnTo>
                <a:lnTo>
                  <a:pt x="826" y="15"/>
                </a:lnTo>
                <a:lnTo>
                  <a:pt x="826" y="25"/>
                </a:lnTo>
                <a:lnTo>
                  <a:pt x="829" y="40"/>
                </a:lnTo>
                <a:lnTo>
                  <a:pt x="833" y="56"/>
                </a:lnTo>
                <a:lnTo>
                  <a:pt x="838" y="75"/>
                </a:lnTo>
                <a:lnTo>
                  <a:pt x="840" y="89"/>
                </a:lnTo>
                <a:lnTo>
                  <a:pt x="840" y="103"/>
                </a:lnTo>
                <a:lnTo>
                  <a:pt x="839" y="117"/>
                </a:lnTo>
                <a:lnTo>
                  <a:pt x="835" y="131"/>
                </a:lnTo>
                <a:lnTo>
                  <a:pt x="826" y="144"/>
                </a:lnTo>
                <a:lnTo>
                  <a:pt x="816" y="156"/>
                </a:lnTo>
                <a:lnTo>
                  <a:pt x="805" y="167"/>
                </a:lnTo>
                <a:lnTo>
                  <a:pt x="792" y="174"/>
                </a:lnTo>
                <a:lnTo>
                  <a:pt x="777" y="180"/>
                </a:lnTo>
                <a:lnTo>
                  <a:pt x="764" y="183"/>
                </a:lnTo>
                <a:lnTo>
                  <a:pt x="745" y="184"/>
                </a:lnTo>
                <a:lnTo>
                  <a:pt x="723" y="182"/>
                </a:lnTo>
                <a:lnTo>
                  <a:pt x="709" y="180"/>
                </a:lnTo>
                <a:lnTo>
                  <a:pt x="696" y="176"/>
                </a:lnTo>
                <a:lnTo>
                  <a:pt x="684" y="169"/>
                </a:lnTo>
                <a:lnTo>
                  <a:pt x="669" y="157"/>
                </a:lnTo>
                <a:lnTo>
                  <a:pt x="660" y="145"/>
                </a:lnTo>
                <a:lnTo>
                  <a:pt x="651" y="133"/>
                </a:lnTo>
                <a:lnTo>
                  <a:pt x="647" y="120"/>
                </a:lnTo>
                <a:lnTo>
                  <a:pt x="643" y="107"/>
                </a:lnTo>
                <a:lnTo>
                  <a:pt x="643" y="94"/>
                </a:lnTo>
                <a:lnTo>
                  <a:pt x="645" y="80"/>
                </a:lnTo>
                <a:lnTo>
                  <a:pt x="648" y="66"/>
                </a:lnTo>
                <a:lnTo>
                  <a:pt x="651" y="54"/>
                </a:lnTo>
                <a:lnTo>
                  <a:pt x="655" y="41"/>
                </a:lnTo>
                <a:lnTo>
                  <a:pt x="658" y="28"/>
                </a:lnTo>
                <a:lnTo>
                  <a:pt x="658" y="16"/>
                </a:lnTo>
                <a:lnTo>
                  <a:pt x="654" y="3"/>
                </a:lnTo>
                <a:lnTo>
                  <a:pt x="502" y="3"/>
                </a:lnTo>
                <a:lnTo>
                  <a:pt x="503" y="30"/>
                </a:lnTo>
                <a:lnTo>
                  <a:pt x="502" y="49"/>
                </a:lnTo>
                <a:lnTo>
                  <a:pt x="501" y="65"/>
                </a:lnTo>
                <a:lnTo>
                  <a:pt x="501" y="79"/>
                </a:lnTo>
                <a:lnTo>
                  <a:pt x="499" y="94"/>
                </a:lnTo>
                <a:lnTo>
                  <a:pt x="496" y="108"/>
                </a:lnTo>
                <a:lnTo>
                  <a:pt x="492" y="118"/>
                </a:lnTo>
                <a:lnTo>
                  <a:pt x="487" y="127"/>
                </a:lnTo>
                <a:lnTo>
                  <a:pt x="479" y="135"/>
                </a:lnTo>
                <a:lnTo>
                  <a:pt x="470" y="140"/>
                </a:lnTo>
                <a:lnTo>
                  <a:pt x="460" y="144"/>
                </a:lnTo>
                <a:lnTo>
                  <a:pt x="449" y="145"/>
                </a:lnTo>
                <a:lnTo>
                  <a:pt x="439" y="146"/>
                </a:lnTo>
                <a:lnTo>
                  <a:pt x="425" y="146"/>
                </a:lnTo>
                <a:lnTo>
                  <a:pt x="413" y="144"/>
                </a:lnTo>
                <a:lnTo>
                  <a:pt x="402" y="144"/>
                </a:lnTo>
                <a:lnTo>
                  <a:pt x="389" y="143"/>
                </a:lnTo>
                <a:lnTo>
                  <a:pt x="375" y="141"/>
                </a:lnTo>
                <a:lnTo>
                  <a:pt x="359" y="141"/>
                </a:lnTo>
                <a:lnTo>
                  <a:pt x="346" y="143"/>
                </a:lnTo>
                <a:lnTo>
                  <a:pt x="332" y="144"/>
                </a:lnTo>
                <a:lnTo>
                  <a:pt x="318" y="148"/>
                </a:lnTo>
                <a:lnTo>
                  <a:pt x="308" y="154"/>
                </a:lnTo>
                <a:lnTo>
                  <a:pt x="297" y="162"/>
                </a:lnTo>
                <a:lnTo>
                  <a:pt x="290" y="171"/>
                </a:lnTo>
                <a:lnTo>
                  <a:pt x="283" y="182"/>
                </a:lnTo>
                <a:lnTo>
                  <a:pt x="280" y="193"/>
                </a:lnTo>
                <a:lnTo>
                  <a:pt x="278" y="205"/>
                </a:lnTo>
                <a:lnTo>
                  <a:pt x="280" y="217"/>
                </a:lnTo>
                <a:lnTo>
                  <a:pt x="280" y="230"/>
                </a:lnTo>
                <a:lnTo>
                  <a:pt x="280" y="244"/>
                </a:lnTo>
                <a:lnTo>
                  <a:pt x="277" y="255"/>
                </a:lnTo>
                <a:lnTo>
                  <a:pt x="274" y="267"/>
                </a:lnTo>
                <a:lnTo>
                  <a:pt x="269" y="277"/>
                </a:lnTo>
                <a:lnTo>
                  <a:pt x="263" y="285"/>
                </a:lnTo>
                <a:lnTo>
                  <a:pt x="253" y="292"/>
                </a:lnTo>
                <a:lnTo>
                  <a:pt x="240" y="297"/>
                </a:lnTo>
                <a:lnTo>
                  <a:pt x="228" y="301"/>
                </a:lnTo>
                <a:lnTo>
                  <a:pt x="216" y="304"/>
                </a:lnTo>
                <a:lnTo>
                  <a:pt x="203" y="308"/>
                </a:lnTo>
                <a:lnTo>
                  <a:pt x="187" y="311"/>
                </a:lnTo>
                <a:lnTo>
                  <a:pt x="174" y="313"/>
                </a:lnTo>
                <a:lnTo>
                  <a:pt x="161" y="317"/>
                </a:lnTo>
                <a:lnTo>
                  <a:pt x="150" y="322"/>
                </a:lnTo>
                <a:lnTo>
                  <a:pt x="139" y="326"/>
                </a:lnTo>
                <a:lnTo>
                  <a:pt x="130" y="333"/>
                </a:lnTo>
                <a:lnTo>
                  <a:pt x="122" y="340"/>
                </a:lnTo>
                <a:lnTo>
                  <a:pt x="113" y="350"/>
                </a:lnTo>
                <a:lnTo>
                  <a:pt x="108" y="360"/>
                </a:lnTo>
                <a:lnTo>
                  <a:pt x="103" y="372"/>
                </a:lnTo>
                <a:lnTo>
                  <a:pt x="101" y="386"/>
                </a:lnTo>
                <a:lnTo>
                  <a:pt x="102" y="399"/>
                </a:lnTo>
                <a:lnTo>
                  <a:pt x="104" y="412"/>
                </a:lnTo>
                <a:lnTo>
                  <a:pt x="108" y="427"/>
                </a:lnTo>
                <a:lnTo>
                  <a:pt x="112" y="445"/>
                </a:lnTo>
                <a:lnTo>
                  <a:pt x="115" y="460"/>
                </a:lnTo>
                <a:lnTo>
                  <a:pt x="117" y="472"/>
                </a:lnTo>
                <a:lnTo>
                  <a:pt x="117" y="484"/>
                </a:lnTo>
                <a:lnTo>
                  <a:pt x="115" y="500"/>
                </a:lnTo>
                <a:lnTo>
                  <a:pt x="111" y="513"/>
                </a:lnTo>
                <a:lnTo>
                  <a:pt x="108" y="524"/>
                </a:lnTo>
                <a:lnTo>
                  <a:pt x="103" y="535"/>
                </a:lnTo>
                <a:lnTo>
                  <a:pt x="97" y="549"/>
                </a:lnTo>
                <a:lnTo>
                  <a:pt x="88" y="564"/>
                </a:lnTo>
                <a:lnTo>
                  <a:pt x="79" y="576"/>
                </a:lnTo>
                <a:lnTo>
                  <a:pt x="69" y="585"/>
                </a:lnTo>
                <a:lnTo>
                  <a:pt x="61" y="593"/>
                </a:lnTo>
                <a:lnTo>
                  <a:pt x="51" y="600"/>
                </a:lnTo>
                <a:lnTo>
                  <a:pt x="42" y="604"/>
                </a:lnTo>
                <a:lnTo>
                  <a:pt x="28" y="607"/>
                </a:lnTo>
                <a:lnTo>
                  <a:pt x="13" y="609"/>
                </a:lnTo>
                <a:lnTo>
                  <a:pt x="0" y="609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NDÊNCIAS DO RELATÓRIO POPC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4.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atisfazer a necessidade do consumidor de personalização/abertura de novos nichos de mercado/maiores margens de luc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5.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air F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valorização da qualidade de vida / mudança de ritmo e condi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6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Volta ao Pass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interpretação da definição de envelhecimento / envelhecer em grande esti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7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Sobrev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usca desenfreada pela saúde / chance de uma vida melh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58F-CFD6-4B09-A657-C44E1C5D79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495680" y="4952880"/>
            <a:ext cx="1449360" cy="1225800"/>
          </a:xfrm>
          <a:custGeom>
            <a:avLst/>
            <a:gdLst/>
            <a:ahLst/>
            <a:rect l="l" t="t" r="r" b="b"/>
            <a:pathLst>
              <a:path w="913" h="772">
                <a:moveTo>
                  <a:pt x="0" y="609"/>
                </a:moveTo>
                <a:lnTo>
                  <a:pt x="0" y="771"/>
                </a:lnTo>
                <a:lnTo>
                  <a:pt x="912" y="771"/>
                </a:lnTo>
                <a:lnTo>
                  <a:pt x="911" y="0"/>
                </a:lnTo>
                <a:lnTo>
                  <a:pt x="830" y="0"/>
                </a:lnTo>
                <a:lnTo>
                  <a:pt x="826" y="15"/>
                </a:lnTo>
                <a:lnTo>
                  <a:pt x="826" y="25"/>
                </a:lnTo>
                <a:lnTo>
                  <a:pt x="829" y="40"/>
                </a:lnTo>
                <a:lnTo>
                  <a:pt x="833" y="56"/>
                </a:lnTo>
                <a:lnTo>
                  <a:pt x="838" y="75"/>
                </a:lnTo>
                <a:lnTo>
                  <a:pt x="840" y="89"/>
                </a:lnTo>
                <a:lnTo>
                  <a:pt x="840" y="103"/>
                </a:lnTo>
                <a:lnTo>
                  <a:pt x="839" y="117"/>
                </a:lnTo>
                <a:lnTo>
                  <a:pt x="835" y="131"/>
                </a:lnTo>
                <a:lnTo>
                  <a:pt x="826" y="144"/>
                </a:lnTo>
                <a:lnTo>
                  <a:pt x="816" y="156"/>
                </a:lnTo>
                <a:lnTo>
                  <a:pt x="805" y="167"/>
                </a:lnTo>
                <a:lnTo>
                  <a:pt x="792" y="174"/>
                </a:lnTo>
                <a:lnTo>
                  <a:pt x="777" y="180"/>
                </a:lnTo>
                <a:lnTo>
                  <a:pt x="764" y="183"/>
                </a:lnTo>
                <a:lnTo>
                  <a:pt x="745" y="184"/>
                </a:lnTo>
                <a:lnTo>
                  <a:pt x="723" y="182"/>
                </a:lnTo>
                <a:lnTo>
                  <a:pt x="709" y="180"/>
                </a:lnTo>
                <a:lnTo>
                  <a:pt x="696" y="176"/>
                </a:lnTo>
                <a:lnTo>
                  <a:pt x="684" y="169"/>
                </a:lnTo>
                <a:lnTo>
                  <a:pt x="669" y="157"/>
                </a:lnTo>
                <a:lnTo>
                  <a:pt x="660" y="145"/>
                </a:lnTo>
                <a:lnTo>
                  <a:pt x="651" y="133"/>
                </a:lnTo>
                <a:lnTo>
                  <a:pt x="647" y="120"/>
                </a:lnTo>
                <a:lnTo>
                  <a:pt x="643" y="107"/>
                </a:lnTo>
                <a:lnTo>
                  <a:pt x="643" y="94"/>
                </a:lnTo>
                <a:lnTo>
                  <a:pt x="645" y="80"/>
                </a:lnTo>
                <a:lnTo>
                  <a:pt x="648" y="66"/>
                </a:lnTo>
                <a:lnTo>
                  <a:pt x="651" y="54"/>
                </a:lnTo>
                <a:lnTo>
                  <a:pt x="655" y="41"/>
                </a:lnTo>
                <a:lnTo>
                  <a:pt x="658" y="28"/>
                </a:lnTo>
                <a:lnTo>
                  <a:pt x="658" y="16"/>
                </a:lnTo>
                <a:lnTo>
                  <a:pt x="654" y="3"/>
                </a:lnTo>
                <a:lnTo>
                  <a:pt x="502" y="3"/>
                </a:lnTo>
                <a:lnTo>
                  <a:pt x="503" y="30"/>
                </a:lnTo>
                <a:lnTo>
                  <a:pt x="502" y="49"/>
                </a:lnTo>
                <a:lnTo>
                  <a:pt x="501" y="65"/>
                </a:lnTo>
                <a:lnTo>
                  <a:pt x="501" y="79"/>
                </a:lnTo>
                <a:lnTo>
                  <a:pt x="499" y="94"/>
                </a:lnTo>
                <a:lnTo>
                  <a:pt x="496" y="108"/>
                </a:lnTo>
                <a:lnTo>
                  <a:pt x="492" y="118"/>
                </a:lnTo>
                <a:lnTo>
                  <a:pt x="487" y="127"/>
                </a:lnTo>
                <a:lnTo>
                  <a:pt x="479" y="135"/>
                </a:lnTo>
                <a:lnTo>
                  <a:pt x="470" y="140"/>
                </a:lnTo>
                <a:lnTo>
                  <a:pt x="460" y="144"/>
                </a:lnTo>
                <a:lnTo>
                  <a:pt x="449" y="145"/>
                </a:lnTo>
                <a:lnTo>
                  <a:pt x="439" y="146"/>
                </a:lnTo>
                <a:lnTo>
                  <a:pt x="425" y="146"/>
                </a:lnTo>
                <a:lnTo>
                  <a:pt x="413" y="144"/>
                </a:lnTo>
                <a:lnTo>
                  <a:pt x="402" y="144"/>
                </a:lnTo>
                <a:lnTo>
                  <a:pt x="389" y="143"/>
                </a:lnTo>
                <a:lnTo>
                  <a:pt x="375" y="141"/>
                </a:lnTo>
                <a:lnTo>
                  <a:pt x="359" y="141"/>
                </a:lnTo>
                <a:lnTo>
                  <a:pt x="346" y="143"/>
                </a:lnTo>
                <a:lnTo>
                  <a:pt x="332" y="144"/>
                </a:lnTo>
                <a:lnTo>
                  <a:pt x="318" y="148"/>
                </a:lnTo>
                <a:lnTo>
                  <a:pt x="308" y="154"/>
                </a:lnTo>
                <a:lnTo>
                  <a:pt x="297" y="162"/>
                </a:lnTo>
                <a:lnTo>
                  <a:pt x="290" y="171"/>
                </a:lnTo>
                <a:lnTo>
                  <a:pt x="283" y="182"/>
                </a:lnTo>
                <a:lnTo>
                  <a:pt x="280" y="193"/>
                </a:lnTo>
                <a:lnTo>
                  <a:pt x="278" y="205"/>
                </a:lnTo>
                <a:lnTo>
                  <a:pt x="280" y="217"/>
                </a:lnTo>
                <a:lnTo>
                  <a:pt x="280" y="230"/>
                </a:lnTo>
                <a:lnTo>
                  <a:pt x="280" y="244"/>
                </a:lnTo>
                <a:lnTo>
                  <a:pt x="277" y="255"/>
                </a:lnTo>
                <a:lnTo>
                  <a:pt x="274" y="267"/>
                </a:lnTo>
                <a:lnTo>
                  <a:pt x="269" y="277"/>
                </a:lnTo>
                <a:lnTo>
                  <a:pt x="263" y="285"/>
                </a:lnTo>
                <a:lnTo>
                  <a:pt x="253" y="292"/>
                </a:lnTo>
                <a:lnTo>
                  <a:pt x="240" y="297"/>
                </a:lnTo>
                <a:lnTo>
                  <a:pt x="228" y="301"/>
                </a:lnTo>
                <a:lnTo>
                  <a:pt x="216" y="304"/>
                </a:lnTo>
                <a:lnTo>
                  <a:pt x="203" y="308"/>
                </a:lnTo>
                <a:lnTo>
                  <a:pt x="187" y="311"/>
                </a:lnTo>
                <a:lnTo>
                  <a:pt x="174" y="313"/>
                </a:lnTo>
                <a:lnTo>
                  <a:pt x="161" y="317"/>
                </a:lnTo>
                <a:lnTo>
                  <a:pt x="150" y="322"/>
                </a:lnTo>
                <a:lnTo>
                  <a:pt x="139" y="326"/>
                </a:lnTo>
                <a:lnTo>
                  <a:pt x="130" y="333"/>
                </a:lnTo>
                <a:lnTo>
                  <a:pt x="122" y="340"/>
                </a:lnTo>
                <a:lnTo>
                  <a:pt x="113" y="350"/>
                </a:lnTo>
                <a:lnTo>
                  <a:pt x="108" y="360"/>
                </a:lnTo>
                <a:lnTo>
                  <a:pt x="103" y="372"/>
                </a:lnTo>
                <a:lnTo>
                  <a:pt x="101" y="386"/>
                </a:lnTo>
                <a:lnTo>
                  <a:pt x="102" y="399"/>
                </a:lnTo>
                <a:lnTo>
                  <a:pt x="104" y="412"/>
                </a:lnTo>
                <a:lnTo>
                  <a:pt x="108" y="427"/>
                </a:lnTo>
                <a:lnTo>
                  <a:pt x="112" y="445"/>
                </a:lnTo>
                <a:lnTo>
                  <a:pt x="115" y="460"/>
                </a:lnTo>
                <a:lnTo>
                  <a:pt x="117" y="472"/>
                </a:lnTo>
                <a:lnTo>
                  <a:pt x="117" y="484"/>
                </a:lnTo>
                <a:lnTo>
                  <a:pt x="115" y="500"/>
                </a:lnTo>
                <a:lnTo>
                  <a:pt x="111" y="513"/>
                </a:lnTo>
                <a:lnTo>
                  <a:pt x="108" y="524"/>
                </a:lnTo>
                <a:lnTo>
                  <a:pt x="103" y="535"/>
                </a:lnTo>
                <a:lnTo>
                  <a:pt x="97" y="549"/>
                </a:lnTo>
                <a:lnTo>
                  <a:pt x="88" y="564"/>
                </a:lnTo>
                <a:lnTo>
                  <a:pt x="79" y="576"/>
                </a:lnTo>
                <a:lnTo>
                  <a:pt x="69" y="585"/>
                </a:lnTo>
                <a:lnTo>
                  <a:pt x="61" y="593"/>
                </a:lnTo>
                <a:lnTo>
                  <a:pt x="51" y="600"/>
                </a:lnTo>
                <a:lnTo>
                  <a:pt x="42" y="604"/>
                </a:lnTo>
                <a:lnTo>
                  <a:pt x="28" y="607"/>
                </a:lnTo>
                <a:lnTo>
                  <a:pt x="13" y="609"/>
                </a:lnTo>
                <a:lnTo>
                  <a:pt x="0" y="609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809880"/>
            <a:ext cx="1296720" cy="1084320"/>
          </a:xfrm>
          <a:custGeom>
            <a:avLst/>
            <a:gdLst/>
            <a:ahLst/>
            <a:rect l="l" t="t" r="r" b="b"/>
            <a:pathLst>
              <a:path w="817" h="683">
                <a:moveTo>
                  <a:pt x="0" y="142"/>
                </a:moveTo>
                <a:lnTo>
                  <a:pt x="0" y="0"/>
                </a:lnTo>
                <a:lnTo>
                  <a:pt x="815" y="0"/>
                </a:lnTo>
                <a:lnTo>
                  <a:pt x="816" y="545"/>
                </a:lnTo>
                <a:lnTo>
                  <a:pt x="745" y="545"/>
                </a:lnTo>
                <a:lnTo>
                  <a:pt x="742" y="549"/>
                </a:lnTo>
                <a:lnTo>
                  <a:pt x="740" y="556"/>
                </a:lnTo>
                <a:lnTo>
                  <a:pt x="740" y="562"/>
                </a:lnTo>
                <a:lnTo>
                  <a:pt x="741" y="568"/>
                </a:lnTo>
                <a:lnTo>
                  <a:pt x="744" y="577"/>
                </a:lnTo>
                <a:lnTo>
                  <a:pt x="747" y="588"/>
                </a:lnTo>
                <a:lnTo>
                  <a:pt x="749" y="595"/>
                </a:lnTo>
                <a:lnTo>
                  <a:pt x="752" y="604"/>
                </a:lnTo>
                <a:lnTo>
                  <a:pt x="753" y="613"/>
                </a:lnTo>
                <a:lnTo>
                  <a:pt x="753" y="621"/>
                </a:lnTo>
                <a:lnTo>
                  <a:pt x="752" y="629"/>
                </a:lnTo>
                <a:lnTo>
                  <a:pt x="749" y="638"/>
                </a:lnTo>
                <a:lnTo>
                  <a:pt x="746" y="646"/>
                </a:lnTo>
                <a:lnTo>
                  <a:pt x="740" y="652"/>
                </a:lnTo>
                <a:lnTo>
                  <a:pt x="732" y="659"/>
                </a:lnTo>
                <a:lnTo>
                  <a:pt x="725" y="664"/>
                </a:lnTo>
                <a:lnTo>
                  <a:pt x="718" y="670"/>
                </a:lnTo>
                <a:lnTo>
                  <a:pt x="709" y="674"/>
                </a:lnTo>
                <a:lnTo>
                  <a:pt x="699" y="677"/>
                </a:lnTo>
                <a:lnTo>
                  <a:pt x="687" y="680"/>
                </a:lnTo>
                <a:lnTo>
                  <a:pt x="676" y="681"/>
                </a:lnTo>
                <a:lnTo>
                  <a:pt x="666" y="682"/>
                </a:lnTo>
                <a:lnTo>
                  <a:pt x="655" y="682"/>
                </a:lnTo>
                <a:lnTo>
                  <a:pt x="645" y="681"/>
                </a:lnTo>
                <a:lnTo>
                  <a:pt x="638" y="680"/>
                </a:lnTo>
                <a:lnTo>
                  <a:pt x="628" y="678"/>
                </a:lnTo>
                <a:lnTo>
                  <a:pt x="619" y="675"/>
                </a:lnTo>
                <a:lnTo>
                  <a:pt x="612" y="672"/>
                </a:lnTo>
                <a:lnTo>
                  <a:pt x="604" y="667"/>
                </a:lnTo>
                <a:lnTo>
                  <a:pt x="597" y="661"/>
                </a:lnTo>
                <a:lnTo>
                  <a:pt x="590" y="654"/>
                </a:lnTo>
                <a:lnTo>
                  <a:pt x="584" y="647"/>
                </a:lnTo>
                <a:lnTo>
                  <a:pt x="579" y="640"/>
                </a:lnTo>
                <a:lnTo>
                  <a:pt x="575" y="631"/>
                </a:lnTo>
                <a:lnTo>
                  <a:pt x="573" y="621"/>
                </a:lnTo>
                <a:lnTo>
                  <a:pt x="573" y="611"/>
                </a:lnTo>
                <a:lnTo>
                  <a:pt x="575" y="601"/>
                </a:lnTo>
                <a:lnTo>
                  <a:pt x="578" y="591"/>
                </a:lnTo>
                <a:lnTo>
                  <a:pt x="581" y="582"/>
                </a:lnTo>
                <a:lnTo>
                  <a:pt x="585" y="571"/>
                </a:lnTo>
                <a:lnTo>
                  <a:pt x="586" y="562"/>
                </a:lnTo>
                <a:lnTo>
                  <a:pt x="586" y="557"/>
                </a:lnTo>
                <a:lnTo>
                  <a:pt x="585" y="553"/>
                </a:lnTo>
                <a:lnTo>
                  <a:pt x="583" y="548"/>
                </a:lnTo>
                <a:lnTo>
                  <a:pt x="447" y="548"/>
                </a:lnTo>
                <a:lnTo>
                  <a:pt x="449" y="528"/>
                </a:lnTo>
                <a:lnTo>
                  <a:pt x="449" y="516"/>
                </a:lnTo>
                <a:lnTo>
                  <a:pt x="447" y="505"/>
                </a:lnTo>
                <a:lnTo>
                  <a:pt x="446" y="495"/>
                </a:lnTo>
                <a:lnTo>
                  <a:pt x="444" y="488"/>
                </a:lnTo>
                <a:lnTo>
                  <a:pt x="440" y="482"/>
                </a:lnTo>
                <a:lnTo>
                  <a:pt x="436" y="477"/>
                </a:lnTo>
                <a:lnTo>
                  <a:pt x="429" y="472"/>
                </a:lnTo>
                <a:lnTo>
                  <a:pt x="421" y="467"/>
                </a:lnTo>
                <a:lnTo>
                  <a:pt x="413" y="465"/>
                </a:lnTo>
                <a:lnTo>
                  <a:pt x="406" y="464"/>
                </a:lnTo>
                <a:lnTo>
                  <a:pt x="394" y="463"/>
                </a:lnTo>
                <a:lnTo>
                  <a:pt x="380" y="463"/>
                </a:lnTo>
                <a:lnTo>
                  <a:pt x="367" y="464"/>
                </a:lnTo>
                <a:lnTo>
                  <a:pt x="352" y="465"/>
                </a:lnTo>
                <a:lnTo>
                  <a:pt x="340" y="466"/>
                </a:lnTo>
                <a:lnTo>
                  <a:pt x="326" y="467"/>
                </a:lnTo>
                <a:lnTo>
                  <a:pt x="314" y="466"/>
                </a:lnTo>
                <a:lnTo>
                  <a:pt x="303" y="465"/>
                </a:lnTo>
                <a:lnTo>
                  <a:pt x="287" y="462"/>
                </a:lnTo>
                <a:lnTo>
                  <a:pt x="276" y="458"/>
                </a:lnTo>
                <a:lnTo>
                  <a:pt x="266" y="452"/>
                </a:lnTo>
                <a:lnTo>
                  <a:pt x="260" y="445"/>
                </a:lnTo>
                <a:lnTo>
                  <a:pt x="254" y="438"/>
                </a:lnTo>
                <a:lnTo>
                  <a:pt x="250" y="429"/>
                </a:lnTo>
                <a:lnTo>
                  <a:pt x="249" y="419"/>
                </a:lnTo>
                <a:lnTo>
                  <a:pt x="249" y="407"/>
                </a:lnTo>
                <a:lnTo>
                  <a:pt x="250" y="398"/>
                </a:lnTo>
                <a:lnTo>
                  <a:pt x="249" y="388"/>
                </a:lnTo>
                <a:lnTo>
                  <a:pt x="246" y="378"/>
                </a:lnTo>
                <a:lnTo>
                  <a:pt x="244" y="372"/>
                </a:lnTo>
                <a:lnTo>
                  <a:pt x="241" y="366"/>
                </a:lnTo>
                <a:lnTo>
                  <a:pt x="236" y="362"/>
                </a:lnTo>
                <a:lnTo>
                  <a:pt x="232" y="358"/>
                </a:lnTo>
                <a:lnTo>
                  <a:pt x="223" y="354"/>
                </a:lnTo>
                <a:lnTo>
                  <a:pt x="212" y="350"/>
                </a:lnTo>
                <a:lnTo>
                  <a:pt x="200" y="347"/>
                </a:lnTo>
                <a:lnTo>
                  <a:pt x="186" y="344"/>
                </a:lnTo>
                <a:lnTo>
                  <a:pt x="172" y="342"/>
                </a:lnTo>
                <a:lnTo>
                  <a:pt x="157" y="340"/>
                </a:lnTo>
                <a:lnTo>
                  <a:pt x="146" y="337"/>
                </a:lnTo>
                <a:lnTo>
                  <a:pt x="135" y="334"/>
                </a:lnTo>
                <a:lnTo>
                  <a:pt x="124" y="330"/>
                </a:lnTo>
                <a:lnTo>
                  <a:pt x="116" y="325"/>
                </a:lnTo>
                <a:lnTo>
                  <a:pt x="107" y="318"/>
                </a:lnTo>
                <a:lnTo>
                  <a:pt x="100" y="312"/>
                </a:lnTo>
                <a:lnTo>
                  <a:pt x="95" y="305"/>
                </a:lnTo>
                <a:lnTo>
                  <a:pt x="91" y="296"/>
                </a:lnTo>
                <a:lnTo>
                  <a:pt x="89" y="287"/>
                </a:lnTo>
                <a:lnTo>
                  <a:pt x="89" y="278"/>
                </a:lnTo>
                <a:lnTo>
                  <a:pt x="91" y="270"/>
                </a:lnTo>
                <a:lnTo>
                  <a:pt x="95" y="259"/>
                </a:lnTo>
                <a:lnTo>
                  <a:pt x="98" y="247"/>
                </a:lnTo>
                <a:lnTo>
                  <a:pt x="100" y="237"/>
                </a:lnTo>
                <a:lnTo>
                  <a:pt x="103" y="227"/>
                </a:lnTo>
                <a:lnTo>
                  <a:pt x="104" y="216"/>
                </a:lnTo>
                <a:lnTo>
                  <a:pt x="103" y="205"/>
                </a:lnTo>
                <a:lnTo>
                  <a:pt x="100" y="196"/>
                </a:lnTo>
                <a:lnTo>
                  <a:pt x="96" y="186"/>
                </a:lnTo>
                <a:lnTo>
                  <a:pt x="90" y="177"/>
                </a:lnTo>
                <a:lnTo>
                  <a:pt x="84" y="170"/>
                </a:lnTo>
                <a:lnTo>
                  <a:pt x="80" y="165"/>
                </a:lnTo>
                <a:lnTo>
                  <a:pt x="74" y="160"/>
                </a:lnTo>
                <a:lnTo>
                  <a:pt x="67" y="155"/>
                </a:lnTo>
                <a:lnTo>
                  <a:pt x="61" y="151"/>
                </a:lnTo>
                <a:lnTo>
                  <a:pt x="52" y="148"/>
                </a:lnTo>
                <a:lnTo>
                  <a:pt x="44" y="145"/>
                </a:lnTo>
                <a:lnTo>
                  <a:pt x="33" y="143"/>
                </a:lnTo>
                <a:lnTo>
                  <a:pt x="21" y="142"/>
                </a:lnTo>
                <a:lnTo>
                  <a:pt x="11" y="142"/>
                </a:lnTo>
                <a:lnTo>
                  <a:pt x="0" y="142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2286000"/>
            <a:ext cx="1773000" cy="1752480"/>
          </a:xfrm>
          <a:custGeom>
            <a:avLst/>
            <a:gdLst/>
            <a:ahLst/>
            <a:rect l="l" t="t" r="r" b="b"/>
            <a:pathLst>
              <a:path w="1117" h="1104">
                <a:moveTo>
                  <a:pt x="425" y="230"/>
                </a:moveTo>
                <a:lnTo>
                  <a:pt x="436" y="218"/>
                </a:lnTo>
                <a:lnTo>
                  <a:pt x="444" y="206"/>
                </a:lnTo>
                <a:lnTo>
                  <a:pt x="448" y="193"/>
                </a:lnTo>
                <a:lnTo>
                  <a:pt x="448" y="176"/>
                </a:lnTo>
                <a:lnTo>
                  <a:pt x="443" y="156"/>
                </a:lnTo>
                <a:lnTo>
                  <a:pt x="439" y="140"/>
                </a:lnTo>
                <a:lnTo>
                  <a:pt x="433" y="119"/>
                </a:lnTo>
                <a:lnTo>
                  <a:pt x="430" y="97"/>
                </a:lnTo>
                <a:lnTo>
                  <a:pt x="433" y="84"/>
                </a:lnTo>
                <a:lnTo>
                  <a:pt x="437" y="67"/>
                </a:lnTo>
                <a:lnTo>
                  <a:pt x="446" y="50"/>
                </a:lnTo>
                <a:lnTo>
                  <a:pt x="458" y="34"/>
                </a:lnTo>
                <a:lnTo>
                  <a:pt x="474" y="20"/>
                </a:lnTo>
                <a:lnTo>
                  <a:pt x="488" y="10"/>
                </a:lnTo>
                <a:lnTo>
                  <a:pt x="507" y="4"/>
                </a:lnTo>
                <a:lnTo>
                  <a:pt x="529" y="1"/>
                </a:lnTo>
                <a:lnTo>
                  <a:pt x="554" y="0"/>
                </a:lnTo>
                <a:lnTo>
                  <a:pt x="587" y="0"/>
                </a:lnTo>
                <a:lnTo>
                  <a:pt x="613" y="2"/>
                </a:lnTo>
                <a:lnTo>
                  <a:pt x="628" y="7"/>
                </a:lnTo>
                <a:lnTo>
                  <a:pt x="639" y="13"/>
                </a:lnTo>
                <a:lnTo>
                  <a:pt x="651" y="20"/>
                </a:lnTo>
                <a:lnTo>
                  <a:pt x="663" y="31"/>
                </a:lnTo>
                <a:lnTo>
                  <a:pt x="674" y="45"/>
                </a:lnTo>
                <a:lnTo>
                  <a:pt x="683" y="58"/>
                </a:lnTo>
                <a:lnTo>
                  <a:pt x="688" y="69"/>
                </a:lnTo>
                <a:lnTo>
                  <a:pt x="691" y="88"/>
                </a:lnTo>
                <a:lnTo>
                  <a:pt x="691" y="104"/>
                </a:lnTo>
                <a:lnTo>
                  <a:pt x="688" y="121"/>
                </a:lnTo>
                <a:lnTo>
                  <a:pt x="685" y="133"/>
                </a:lnTo>
                <a:lnTo>
                  <a:pt x="681" y="154"/>
                </a:lnTo>
                <a:lnTo>
                  <a:pt x="674" y="175"/>
                </a:lnTo>
                <a:lnTo>
                  <a:pt x="672" y="188"/>
                </a:lnTo>
                <a:lnTo>
                  <a:pt x="676" y="201"/>
                </a:lnTo>
                <a:lnTo>
                  <a:pt x="681" y="211"/>
                </a:lnTo>
                <a:lnTo>
                  <a:pt x="691" y="223"/>
                </a:lnTo>
                <a:lnTo>
                  <a:pt x="705" y="234"/>
                </a:lnTo>
                <a:lnTo>
                  <a:pt x="718" y="242"/>
                </a:lnTo>
                <a:lnTo>
                  <a:pt x="737" y="249"/>
                </a:lnTo>
                <a:lnTo>
                  <a:pt x="756" y="254"/>
                </a:lnTo>
                <a:lnTo>
                  <a:pt x="774" y="258"/>
                </a:lnTo>
                <a:lnTo>
                  <a:pt x="794" y="260"/>
                </a:lnTo>
                <a:lnTo>
                  <a:pt x="814" y="265"/>
                </a:lnTo>
                <a:lnTo>
                  <a:pt x="829" y="270"/>
                </a:lnTo>
                <a:lnTo>
                  <a:pt x="841" y="275"/>
                </a:lnTo>
                <a:lnTo>
                  <a:pt x="851" y="281"/>
                </a:lnTo>
                <a:lnTo>
                  <a:pt x="858" y="288"/>
                </a:lnTo>
                <a:lnTo>
                  <a:pt x="863" y="297"/>
                </a:lnTo>
                <a:lnTo>
                  <a:pt x="867" y="307"/>
                </a:lnTo>
                <a:lnTo>
                  <a:pt x="869" y="317"/>
                </a:lnTo>
                <a:lnTo>
                  <a:pt x="871" y="325"/>
                </a:lnTo>
                <a:lnTo>
                  <a:pt x="871" y="337"/>
                </a:lnTo>
                <a:lnTo>
                  <a:pt x="869" y="350"/>
                </a:lnTo>
                <a:lnTo>
                  <a:pt x="869" y="361"/>
                </a:lnTo>
                <a:lnTo>
                  <a:pt x="872" y="373"/>
                </a:lnTo>
                <a:lnTo>
                  <a:pt x="878" y="384"/>
                </a:lnTo>
                <a:lnTo>
                  <a:pt x="885" y="394"/>
                </a:lnTo>
                <a:lnTo>
                  <a:pt x="893" y="401"/>
                </a:lnTo>
                <a:lnTo>
                  <a:pt x="905" y="408"/>
                </a:lnTo>
                <a:lnTo>
                  <a:pt x="916" y="413"/>
                </a:lnTo>
                <a:lnTo>
                  <a:pt x="933" y="416"/>
                </a:lnTo>
                <a:lnTo>
                  <a:pt x="948" y="418"/>
                </a:lnTo>
                <a:lnTo>
                  <a:pt x="962" y="419"/>
                </a:lnTo>
                <a:lnTo>
                  <a:pt x="978" y="418"/>
                </a:lnTo>
                <a:lnTo>
                  <a:pt x="997" y="416"/>
                </a:lnTo>
                <a:lnTo>
                  <a:pt x="1012" y="415"/>
                </a:lnTo>
                <a:lnTo>
                  <a:pt x="1026" y="414"/>
                </a:lnTo>
                <a:lnTo>
                  <a:pt x="1040" y="413"/>
                </a:lnTo>
                <a:lnTo>
                  <a:pt x="1057" y="414"/>
                </a:lnTo>
                <a:lnTo>
                  <a:pt x="1066" y="415"/>
                </a:lnTo>
                <a:lnTo>
                  <a:pt x="1076" y="418"/>
                </a:lnTo>
                <a:lnTo>
                  <a:pt x="1086" y="423"/>
                </a:lnTo>
                <a:lnTo>
                  <a:pt x="1096" y="430"/>
                </a:lnTo>
                <a:lnTo>
                  <a:pt x="1104" y="437"/>
                </a:lnTo>
                <a:lnTo>
                  <a:pt x="1110" y="449"/>
                </a:lnTo>
                <a:lnTo>
                  <a:pt x="1113" y="459"/>
                </a:lnTo>
                <a:lnTo>
                  <a:pt x="1114" y="472"/>
                </a:lnTo>
                <a:lnTo>
                  <a:pt x="1116" y="495"/>
                </a:lnTo>
                <a:lnTo>
                  <a:pt x="1115" y="521"/>
                </a:lnTo>
                <a:lnTo>
                  <a:pt x="1116" y="550"/>
                </a:lnTo>
                <a:lnTo>
                  <a:pt x="1113" y="582"/>
                </a:lnTo>
                <a:lnTo>
                  <a:pt x="1111" y="605"/>
                </a:lnTo>
                <a:lnTo>
                  <a:pt x="1108" y="623"/>
                </a:lnTo>
                <a:lnTo>
                  <a:pt x="1104" y="633"/>
                </a:lnTo>
                <a:lnTo>
                  <a:pt x="1097" y="643"/>
                </a:lnTo>
                <a:lnTo>
                  <a:pt x="1089" y="649"/>
                </a:lnTo>
                <a:lnTo>
                  <a:pt x="1079" y="655"/>
                </a:lnTo>
                <a:lnTo>
                  <a:pt x="1066" y="658"/>
                </a:lnTo>
                <a:lnTo>
                  <a:pt x="1056" y="660"/>
                </a:lnTo>
                <a:lnTo>
                  <a:pt x="1034" y="661"/>
                </a:lnTo>
                <a:lnTo>
                  <a:pt x="1015" y="660"/>
                </a:lnTo>
                <a:lnTo>
                  <a:pt x="1000" y="658"/>
                </a:lnTo>
                <a:lnTo>
                  <a:pt x="986" y="657"/>
                </a:lnTo>
                <a:lnTo>
                  <a:pt x="970" y="656"/>
                </a:lnTo>
                <a:lnTo>
                  <a:pt x="956" y="656"/>
                </a:lnTo>
                <a:lnTo>
                  <a:pt x="944" y="657"/>
                </a:lnTo>
                <a:lnTo>
                  <a:pt x="931" y="658"/>
                </a:lnTo>
                <a:lnTo>
                  <a:pt x="915" y="662"/>
                </a:lnTo>
                <a:lnTo>
                  <a:pt x="907" y="665"/>
                </a:lnTo>
                <a:lnTo>
                  <a:pt x="899" y="668"/>
                </a:lnTo>
                <a:lnTo>
                  <a:pt x="888" y="674"/>
                </a:lnTo>
                <a:lnTo>
                  <a:pt x="881" y="682"/>
                </a:lnTo>
                <a:lnTo>
                  <a:pt x="876" y="689"/>
                </a:lnTo>
                <a:lnTo>
                  <a:pt x="871" y="698"/>
                </a:lnTo>
                <a:lnTo>
                  <a:pt x="868" y="706"/>
                </a:lnTo>
                <a:lnTo>
                  <a:pt x="867" y="716"/>
                </a:lnTo>
                <a:lnTo>
                  <a:pt x="868" y="726"/>
                </a:lnTo>
                <a:lnTo>
                  <a:pt x="868" y="743"/>
                </a:lnTo>
                <a:lnTo>
                  <a:pt x="867" y="761"/>
                </a:lnTo>
                <a:lnTo>
                  <a:pt x="862" y="775"/>
                </a:lnTo>
                <a:lnTo>
                  <a:pt x="857" y="786"/>
                </a:lnTo>
                <a:lnTo>
                  <a:pt x="849" y="793"/>
                </a:lnTo>
                <a:lnTo>
                  <a:pt x="838" y="800"/>
                </a:lnTo>
                <a:lnTo>
                  <a:pt x="827" y="805"/>
                </a:lnTo>
                <a:lnTo>
                  <a:pt x="814" y="808"/>
                </a:lnTo>
                <a:lnTo>
                  <a:pt x="797" y="811"/>
                </a:lnTo>
                <a:lnTo>
                  <a:pt x="783" y="815"/>
                </a:lnTo>
                <a:lnTo>
                  <a:pt x="767" y="818"/>
                </a:lnTo>
                <a:lnTo>
                  <a:pt x="753" y="820"/>
                </a:lnTo>
                <a:lnTo>
                  <a:pt x="737" y="823"/>
                </a:lnTo>
                <a:lnTo>
                  <a:pt x="725" y="829"/>
                </a:lnTo>
                <a:lnTo>
                  <a:pt x="711" y="834"/>
                </a:lnTo>
                <a:lnTo>
                  <a:pt x="698" y="841"/>
                </a:lnTo>
                <a:lnTo>
                  <a:pt x="688" y="851"/>
                </a:lnTo>
                <a:lnTo>
                  <a:pt x="680" y="862"/>
                </a:lnTo>
                <a:lnTo>
                  <a:pt x="673" y="875"/>
                </a:lnTo>
                <a:lnTo>
                  <a:pt x="671" y="887"/>
                </a:lnTo>
                <a:lnTo>
                  <a:pt x="672" y="900"/>
                </a:lnTo>
                <a:lnTo>
                  <a:pt x="674" y="913"/>
                </a:lnTo>
                <a:lnTo>
                  <a:pt x="679" y="926"/>
                </a:lnTo>
                <a:lnTo>
                  <a:pt x="682" y="941"/>
                </a:lnTo>
                <a:lnTo>
                  <a:pt x="685" y="954"/>
                </a:lnTo>
                <a:lnTo>
                  <a:pt x="688" y="971"/>
                </a:lnTo>
                <a:lnTo>
                  <a:pt x="688" y="989"/>
                </a:lnTo>
                <a:lnTo>
                  <a:pt x="684" y="1006"/>
                </a:lnTo>
                <a:lnTo>
                  <a:pt x="680" y="1019"/>
                </a:lnTo>
                <a:lnTo>
                  <a:pt x="674" y="1032"/>
                </a:lnTo>
                <a:lnTo>
                  <a:pt x="668" y="1045"/>
                </a:lnTo>
                <a:lnTo>
                  <a:pt x="658" y="1061"/>
                </a:lnTo>
                <a:lnTo>
                  <a:pt x="648" y="1071"/>
                </a:lnTo>
                <a:lnTo>
                  <a:pt x="639" y="1078"/>
                </a:lnTo>
                <a:lnTo>
                  <a:pt x="628" y="1087"/>
                </a:lnTo>
                <a:lnTo>
                  <a:pt x="615" y="1094"/>
                </a:lnTo>
                <a:lnTo>
                  <a:pt x="604" y="1098"/>
                </a:lnTo>
                <a:lnTo>
                  <a:pt x="594" y="1101"/>
                </a:lnTo>
                <a:lnTo>
                  <a:pt x="576" y="1102"/>
                </a:lnTo>
                <a:lnTo>
                  <a:pt x="556" y="1103"/>
                </a:lnTo>
                <a:lnTo>
                  <a:pt x="532" y="1102"/>
                </a:lnTo>
                <a:lnTo>
                  <a:pt x="521" y="1102"/>
                </a:lnTo>
                <a:lnTo>
                  <a:pt x="506" y="1100"/>
                </a:lnTo>
                <a:lnTo>
                  <a:pt x="490" y="1096"/>
                </a:lnTo>
                <a:lnTo>
                  <a:pt x="476" y="1089"/>
                </a:lnTo>
                <a:lnTo>
                  <a:pt x="468" y="1083"/>
                </a:lnTo>
                <a:lnTo>
                  <a:pt x="458" y="1074"/>
                </a:lnTo>
                <a:lnTo>
                  <a:pt x="450" y="1066"/>
                </a:lnTo>
                <a:lnTo>
                  <a:pt x="442" y="1056"/>
                </a:lnTo>
                <a:lnTo>
                  <a:pt x="436" y="1046"/>
                </a:lnTo>
                <a:lnTo>
                  <a:pt x="431" y="1033"/>
                </a:lnTo>
                <a:lnTo>
                  <a:pt x="428" y="1020"/>
                </a:lnTo>
                <a:lnTo>
                  <a:pt x="428" y="1010"/>
                </a:lnTo>
                <a:lnTo>
                  <a:pt x="428" y="996"/>
                </a:lnTo>
                <a:lnTo>
                  <a:pt x="428" y="984"/>
                </a:lnTo>
                <a:lnTo>
                  <a:pt x="433" y="971"/>
                </a:lnTo>
                <a:lnTo>
                  <a:pt x="436" y="956"/>
                </a:lnTo>
                <a:lnTo>
                  <a:pt x="441" y="942"/>
                </a:lnTo>
                <a:lnTo>
                  <a:pt x="443" y="930"/>
                </a:lnTo>
                <a:lnTo>
                  <a:pt x="444" y="918"/>
                </a:lnTo>
                <a:lnTo>
                  <a:pt x="443" y="909"/>
                </a:lnTo>
                <a:lnTo>
                  <a:pt x="441" y="899"/>
                </a:lnTo>
                <a:lnTo>
                  <a:pt x="434" y="887"/>
                </a:lnTo>
                <a:lnTo>
                  <a:pt x="427" y="880"/>
                </a:lnTo>
                <a:lnTo>
                  <a:pt x="418" y="871"/>
                </a:lnTo>
                <a:lnTo>
                  <a:pt x="409" y="865"/>
                </a:lnTo>
                <a:lnTo>
                  <a:pt x="399" y="858"/>
                </a:lnTo>
                <a:lnTo>
                  <a:pt x="385" y="854"/>
                </a:lnTo>
                <a:lnTo>
                  <a:pt x="373" y="851"/>
                </a:lnTo>
                <a:lnTo>
                  <a:pt x="357" y="847"/>
                </a:lnTo>
                <a:lnTo>
                  <a:pt x="343" y="846"/>
                </a:lnTo>
                <a:lnTo>
                  <a:pt x="330" y="843"/>
                </a:lnTo>
                <a:lnTo>
                  <a:pt x="315" y="840"/>
                </a:lnTo>
                <a:lnTo>
                  <a:pt x="302" y="835"/>
                </a:lnTo>
                <a:lnTo>
                  <a:pt x="286" y="831"/>
                </a:lnTo>
                <a:lnTo>
                  <a:pt x="274" y="826"/>
                </a:lnTo>
                <a:lnTo>
                  <a:pt x="264" y="819"/>
                </a:lnTo>
                <a:lnTo>
                  <a:pt x="256" y="810"/>
                </a:lnTo>
                <a:lnTo>
                  <a:pt x="251" y="798"/>
                </a:lnTo>
                <a:lnTo>
                  <a:pt x="247" y="782"/>
                </a:lnTo>
                <a:lnTo>
                  <a:pt x="246" y="770"/>
                </a:lnTo>
                <a:lnTo>
                  <a:pt x="247" y="756"/>
                </a:lnTo>
                <a:lnTo>
                  <a:pt x="249" y="745"/>
                </a:lnTo>
                <a:lnTo>
                  <a:pt x="247" y="731"/>
                </a:lnTo>
                <a:lnTo>
                  <a:pt x="242" y="721"/>
                </a:lnTo>
                <a:lnTo>
                  <a:pt x="235" y="710"/>
                </a:lnTo>
                <a:lnTo>
                  <a:pt x="227" y="703"/>
                </a:lnTo>
                <a:lnTo>
                  <a:pt x="217" y="696"/>
                </a:lnTo>
                <a:lnTo>
                  <a:pt x="204" y="691"/>
                </a:lnTo>
                <a:lnTo>
                  <a:pt x="189" y="687"/>
                </a:lnTo>
                <a:lnTo>
                  <a:pt x="174" y="685"/>
                </a:lnTo>
                <a:lnTo>
                  <a:pt x="161" y="684"/>
                </a:lnTo>
                <a:lnTo>
                  <a:pt x="146" y="684"/>
                </a:lnTo>
                <a:lnTo>
                  <a:pt x="133" y="685"/>
                </a:lnTo>
                <a:lnTo>
                  <a:pt x="120" y="686"/>
                </a:lnTo>
                <a:lnTo>
                  <a:pt x="107" y="688"/>
                </a:lnTo>
                <a:lnTo>
                  <a:pt x="94" y="689"/>
                </a:lnTo>
                <a:lnTo>
                  <a:pt x="72" y="689"/>
                </a:lnTo>
                <a:lnTo>
                  <a:pt x="58" y="688"/>
                </a:lnTo>
                <a:lnTo>
                  <a:pt x="43" y="685"/>
                </a:lnTo>
                <a:lnTo>
                  <a:pt x="33" y="680"/>
                </a:lnTo>
                <a:lnTo>
                  <a:pt x="22" y="673"/>
                </a:lnTo>
                <a:lnTo>
                  <a:pt x="14" y="664"/>
                </a:lnTo>
                <a:lnTo>
                  <a:pt x="9" y="655"/>
                </a:lnTo>
                <a:lnTo>
                  <a:pt x="3" y="637"/>
                </a:lnTo>
                <a:lnTo>
                  <a:pt x="2" y="618"/>
                </a:lnTo>
                <a:lnTo>
                  <a:pt x="1" y="599"/>
                </a:lnTo>
                <a:lnTo>
                  <a:pt x="0" y="575"/>
                </a:lnTo>
                <a:lnTo>
                  <a:pt x="2" y="555"/>
                </a:lnTo>
                <a:lnTo>
                  <a:pt x="3" y="533"/>
                </a:lnTo>
                <a:lnTo>
                  <a:pt x="3" y="513"/>
                </a:lnTo>
                <a:lnTo>
                  <a:pt x="5" y="493"/>
                </a:lnTo>
                <a:lnTo>
                  <a:pt x="8" y="477"/>
                </a:lnTo>
                <a:lnTo>
                  <a:pt x="10" y="460"/>
                </a:lnTo>
                <a:lnTo>
                  <a:pt x="14" y="447"/>
                </a:lnTo>
                <a:lnTo>
                  <a:pt x="19" y="438"/>
                </a:lnTo>
                <a:lnTo>
                  <a:pt x="27" y="430"/>
                </a:lnTo>
                <a:lnTo>
                  <a:pt x="35" y="424"/>
                </a:lnTo>
                <a:lnTo>
                  <a:pt x="45" y="418"/>
                </a:lnTo>
                <a:lnTo>
                  <a:pt x="55" y="416"/>
                </a:lnTo>
                <a:lnTo>
                  <a:pt x="67" y="414"/>
                </a:lnTo>
                <a:lnTo>
                  <a:pt x="83" y="413"/>
                </a:lnTo>
                <a:lnTo>
                  <a:pt x="96" y="414"/>
                </a:lnTo>
                <a:lnTo>
                  <a:pt x="116" y="416"/>
                </a:lnTo>
                <a:lnTo>
                  <a:pt x="132" y="417"/>
                </a:lnTo>
                <a:lnTo>
                  <a:pt x="146" y="418"/>
                </a:lnTo>
                <a:lnTo>
                  <a:pt x="165" y="419"/>
                </a:lnTo>
                <a:lnTo>
                  <a:pt x="185" y="416"/>
                </a:lnTo>
                <a:lnTo>
                  <a:pt x="202" y="413"/>
                </a:lnTo>
                <a:lnTo>
                  <a:pt x="217" y="408"/>
                </a:lnTo>
                <a:lnTo>
                  <a:pt x="228" y="402"/>
                </a:lnTo>
                <a:lnTo>
                  <a:pt x="238" y="394"/>
                </a:lnTo>
                <a:lnTo>
                  <a:pt x="246" y="383"/>
                </a:lnTo>
                <a:lnTo>
                  <a:pt x="251" y="372"/>
                </a:lnTo>
                <a:lnTo>
                  <a:pt x="253" y="360"/>
                </a:lnTo>
                <a:lnTo>
                  <a:pt x="252" y="351"/>
                </a:lnTo>
                <a:lnTo>
                  <a:pt x="251" y="335"/>
                </a:lnTo>
                <a:lnTo>
                  <a:pt x="252" y="318"/>
                </a:lnTo>
                <a:lnTo>
                  <a:pt x="256" y="306"/>
                </a:lnTo>
                <a:lnTo>
                  <a:pt x="260" y="294"/>
                </a:lnTo>
                <a:lnTo>
                  <a:pt x="266" y="285"/>
                </a:lnTo>
                <a:lnTo>
                  <a:pt x="278" y="277"/>
                </a:lnTo>
                <a:lnTo>
                  <a:pt x="291" y="270"/>
                </a:lnTo>
                <a:lnTo>
                  <a:pt x="308" y="266"/>
                </a:lnTo>
                <a:lnTo>
                  <a:pt x="324" y="262"/>
                </a:lnTo>
                <a:lnTo>
                  <a:pt x="338" y="259"/>
                </a:lnTo>
                <a:lnTo>
                  <a:pt x="355" y="256"/>
                </a:lnTo>
                <a:lnTo>
                  <a:pt x="372" y="253"/>
                </a:lnTo>
                <a:lnTo>
                  <a:pt x="391" y="249"/>
                </a:lnTo>
                <a:lnTo>
                  <a:pt x="409" y="241"/>
                </a:lnTo>
                <a:lnTo>
                  <a:pt x="425" y="23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286000"/>
            <a:ext cx="1525320" cy="1176480"/>
          </a:xfrm>
          <a:custGeom>
            <a:avLst/>
            <a:gdLst/>
            <a:ahLst/>
            <a:rect l="l" t="t" r="r" b="b"/>
            <a:pathLst>
              <a:path w="961" h="741">
                <a:moveTo>
                  <a:pt x="960" y="184"/>
                </a:moveTo>
                <a:lnTo>
                  <a:pt x="960" y="0"/>
                </a:lnTo>
                <a:lnTo>
                  <a:pt x="0" y="0"/>
                </a:lnTo>
                <a:lnTo>
                  <a:pt x="1" y="740"/>
                </a:lnTo>
                <a:lnTo>
                  <a:pt x="86" y="740"/>
                </a:lnTo>
                <a:lnTo>
                  <a:pt x="90" y="726"/>
                </a:lnTo>
                <a:lnTo>
                  <a:pt x="90" y="716"/>
                </a:lnTo>
                <a:lnTo>
                  <a:pt x="88" y="701"/>
                </a:lnTo>
                <a:lnTo>
                  <a:pt x="83" y="686"/>
                </a:lnTo>
                <a:lnTo>
                  <a:pt x="78" y="668"/>
                </a:lnTo>
                <a:lnTo>
                  <a:pt x="75" y="654"/>
                </a:lnTo>
                <a:lnTo>
                  <a:pt x="75" y="642"/>
                </a:lnTo>
                <a:lnTo>
                  <a:pt x="77" y="627"/>
                </a:lnTo>
                <a:lnTo>
                  <a:pt x="81" y="614"/>
                </a:lnTo>
                <a:lnTo>
                  <a:pt x="90" y="601"/>
                </a:lnTo>
                <a:lnTo>
                  <a:pt x="101" y="590"/>
                </a:lnTo>
                <a:lnTo>
                  <a:pt x="113" y="580"/>
                </a:lnTo>
                <a:lnTo>
                  <a:pt x="126" y="573"/>
                </a:lnTo>
                <a:lnTo>
                  <a:pt x="142" y="567"/>
                </a:lnTo>
                <a:lnTo>
                  <a:pt x="156" y="564"/>
                </a:lnTo>
                <a:lnTo>
                  <a:pt x="176" y="564"/>
                </a:lnTo>
                <a:lnTo>
                  <a:pt x="199" y="565"/>
                </a:lnTo>
                <a:lnTo>
                  <a:pt x="214" y="567"/>
                </a:lnTo>
                <a:lnTo>
                  <a:pt x="227" y="571"/>
                </a:lnTo>
                <a:lnTo>
                  <a:pt x="240" y="578"/>
                </a:lnTo>
                <a:lnTo>
                  <a:pt x="255" y="590"/>
                </a:lnTo>
                <a:lnTo>
                  <a:pt x="265" y="601"/>
                </a:lnTo>
                <a:lnTo>
                  <a:pt x="274" y="612"/>
                </a:lnTo>
                <a:lnTo>
                  <a:pt x="279" y="625"/>
                </a:lnTo>
                <a:lnTo>
                  <a:pt x="283" y="637"/>
                </a:lnTo>
                <a:lnTo>
                  <a:pt x="283" y="650"/>
                </a:lnTo>
                <a:lnTo>
                  <a:pt x="281" y="664"/>
                </a:lnTo>
                <a:lnTo>
                  <a:pt x="278" y="676"/>
                </a:lnTo>
                <a:lnTo>
                  <a:pt x="274" y="688"/>
                </a:lnTo>
                <a:lnTo>
                  <a:pt x="270" y="701"/>
                </a:lnTo>
                <a:lnTo>
                  <a:pt x="268" y="713"/>
                </a:lnTo>
                <a:lnTo>
                  <a:pt x="268" y="724"/>
                </a:lnTo>
                <a:lnTo>
                  <a:pt x="271" y="737"/>
                </a:lnTo>
                <a:lnTo>
                  <a:pt x="432" y="737"/>
                </a:lnTo>
                <a:lnTo>
                  <a:pt x="430" y="711"/>
                </a:lnTo>
                <a:lnTo>
                  <a:pt x="432" y="692"/>
                </a:lnTo>
                <a:lnTo>
                  <a:pt x="432" y="678"/>
                </a:lnTo>
                <a:lnTo>
                  <a:pt x="433" y="664"/>
                </a:lnTo>
                <a:lnTo>
                  <a:pt x="434" y="650"/>
                </a:lnTo>
                <a:lnTo>
                  <a:pt x="438" y="636"/>
                </a:lnTo>
                <a:lnTo>
                  <a:pt x="442" y="627"/>
                </a:lnTo>
                <a:lnTo>
                  <a:pt x="448" y="618"/>
                </a:lnTo>
                <a:lnTo>
                  <a:pt x="456" y="611"/>
                </a:lnTo>
                <a:lnTo>
                  <a:pt x="465" y="605"/>
                </a:lnTo>
                <a:lnTo>
                  <a:pt x="476" y="602"/>
                </a:lnTo>
                <a:lnTo>
                  <a:pt x="487" y="601"/>
                </a:lnTo>
                <a:lnTo>
                  <a:pt x="498" y="600"/>
                </a:lnTo>
                <a:lnTo>
                  <a:pt x="512" y="600"/>
                </a:lnTo>
                <a:lnTo>
                  <a:pt x="526" y="601"/>
                </a:lnTo>
                <a:lnTo>
                  <a:pt x="536" y="602"/>
                </a:lnTo>
                <a:lnTo>
                  <a:pt x="550" y="603"/>
                </a:lnTo>
                <a:lnTo>
                  <a:pt x="565" y="605"/>
                </a:lnTo>
                <a:lnTo>
                  <a:pt x="582" y="605"/>
                </a:lnTo>
                <a:lnTo>
                  <a:pt x="596" y="603"/>
                </a:lnTo>
                <a:lnTo>
                  <a:pt x="610" y="601"/>
                </a:lnTo>
                <a:lnTo>
                  <a:pt x="625" y="598"/>
                </a:lnTo>
                <a:lnTo>
                  <a:pt x="636" y="592"/>
                </a:lnTo>
                <a:lnTo>
                  <a:pt x="647" y="585"/>
                </a:lnTo>
                <a:lnTo>
                  <a:pt x="655" y="575"/>
                </a:lnTo>
                <a:lnTo>
                  <a:pt x="662" y="565"/>
                </a:lnTo>
                <a:lnTo>
                  <a:pt x="666" y="555"/>
                </a:lnTo>
                <a:lnTo>
                  <a:pt x="667" y="543"/>
                </a:lnTo>
                <a:lnTo>
                  <a:pt x="666" y="531"/>
                </a:lnTo>
                <a:lnTo>
                  <a:pt x="665" y="519"/>
                </a:lnTo>
                <a:lnTo>
                  <a:pt x="666" y="505"/>
                </a:lnTo>
                <a:lnTo>
                  <a:pt x="668" y="495"/>
                </a:lnTo>
                <a:lnTo>
                  <a:pt x="672" y="484"/>
                </a:lnTo>
                <a:lnTo>
                  <a:pt x="676" y="474"/>
                </a:lnTo>
                <a:lnTo>
                  <a:pt x="683" y="467"/>
                </a:lnTo>
                <a:lnTo>
                  <a:pt x="694" y="460"/>
                </a:lnTo>
                <a:lnTo>
                  <a:pt x="707" y="455"/>
                </a:lnTo>
                <a:lnTo>
                  <a:pt x="720" y="451"/>
                </a:lnTo>
                <a:lnTo>
                  <a:pt x="733" y="448"/>
                </a:lnTo>
                <a:lnTo>
                  <a:pt x="746" y="445"/>
                </a:lnTo>
                <a:lnTo>
                  <a:pt x="764" y="442"/>
                </a:lnTo>
                <a:lnTo>
                  <a:pt x="777" y="439"/>
                </a:lnTo>
                <a:lnTo>
                  <a:pt x="791" y="435"/>
                </a:lnTo>
                <a:lnTo>
                  <a:pt x="802" y="431"/>
                </a:lnTo>
                <a:lnTo>
                  <a:pt x="814" y="427"/>
                </a:lnTo>
                <a:lnTo>
                  <a:pt x="823" y="420"/>
                </a:lnTo>
                <a:lnTo>
                  <a:pt x="832" y="414"/>
                </a:lnTo>
                <a:lnTo>
                  <a:pt x="841" y="404"/>
                </a:lnTo>
                <a:lnTo>
                  <a:pt x="846" y="394"/>
                </a:lnTo>
                <a:lnTo>
                  <a:pt x="851" y="383"/>
                </a:lnTo>
                <a:lnTo>
                  <a:pt x="854" y="369"/>
                </a:lnTo>
                <a:lnTo>
                  <a:pt x="852" y="357"/>
                </a:lnTo>
                <a:lnTo>
                  <a:pt x="851" y="345"/>
                </a:lnTo>
                <a:lnTo>
                  <a:pt x="846" y="330"/>
                </a:lnTo>
                <a:lnTo>
                  <a:pt x="842" y="313"/>
                </a:lnTo>
                <a:lnTo>
                  <a:pt x="838" y="298"/>
                </a:lnTo>
                <a:lnTo>
                  <a:pt x="837" y="287"/>
                </a:lnTo>
                <a:lnTo>
                  <a:pt x="837" y="276"/>
                </a:lnTo>
                <a:lnTo>
                  <a:pt x="839" y="261"/>
                </a:lnTo>
                <a:lnTo>
                  <a:pt x="843" y="248"/>
                </a:lnTo>
                <a:lnTo>
                  <a:pt x="847" y="239"/>
                </a:lnTo>
                <a:lnTo>
                  <a:pt x="853" y="229"/>
                </a:lnTo>
                <a:lnTo>
                  <a:pt x="861" y="219"/>
                </a:lnTo>
                <a:lnTo>
                  <a:pt x="870" y="209"/>
                </a:lnTo>
                <a:lnTo>
                  <a:pt x="882" y="200"/>
                </a:lnTo>
                <a:lnTo>
                  <a:pt x="895" y="193"/>
                </a:lnTo>
                <a:lnTo>
                  <a:pt x="906" y="189"/>
                </a:lnTo>
                <a:lnTo>
                  <a:pt x="918" y="186"/>
                </a:lnTo>
                <a:lnTo>
                  <a:pt x="930" y="184"/>
                </a:lnTo>
                <a:lnTo>
                  <a:pt x="945" y="184"/>
                </a:lnTo>
                <a:lnTo>
                  <a:pt x="960" y="184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4648320"/>
            <a:ext cx="1363680" cy="1301760"/>
          </a:xfrm>
          <a:custGeom>
            <a:avLst/>
            <a:gdLst/>
            <a:ahLst/>
            <a:rect l="l" t="t" r="r" b="b"/>
            <a:pathLst>
              <a:path w="859" h="820">
                <a:moveTo>
                  <a:pt x="858" y="674"/>
                </a:moveTo>
                <a:lnTo>
                  <a:pt x="858" y="819"/>
                </a:lnTo>
                <a:lnTo>
                  <a:pt x="1" y="819"/>
                </a:lnTo>
                <a:lnTo>
                  <a:pt x="0" y="165"/>
                </a:lnTo>
                <a:lnTo>
                  <a:pt x="74" y="165"/>
                </a:lnTo>
                <a:lnTo>
                  <a:pt x="77" y="159"/>
                </a:lnTo>
                <a:lnTo>
                  <a:pt x="80" y="151"/>
                </a:lnTo>
                <a:lnTo>
                  <a:pt x="80" y="145"/>
                </a:lnTo>
                <a:lnTo>
                  <a:pt x="79" y="137"/>
                </a:lnTo>
                <a:lnTo>
                  <a:pt x="76" y="126"/>
                </a:lnTo>
                <a:lnTo>
                  <a:pt x="73" y="113"/>
                </a:lnTo>
                <a:lnTo>
                  <a:pt x="70" y="104"/>
                </a:lnTo>
                <a:lnTo>
                  <a:pt x="67" y="93"/>
                </a:lnTo>
                <a:lnTo>
                  <a:pt x="66" y="83"/>
                </a:lnTo>
                <a:lnTo>
                  <a:pt x="66" y="73"/>
                </a:lnTo>
                <a:lnTo>
                  <a:pt x="67" y="64"/>
                </a:lnTo>
                <a:lnTo>
                  <a:pt x="70" y="53"/>
                </a:lnTo>
                <a:lnTo>
                  <a:pt x="74" y="44"/>
                </a:lnTo>
                <a:lnTo>
                  <a:pt x="80" y="36"/>
                </a:lnTo>
                <a:lnTo>
                  <a:pt x="88" y="28"/>
                </a:lnTo>
                <a:lnTo>
                  <a:pt x="95" y="21"/>
                </a:lnTo>
                <a:lnTo>
                  <a:pt x="103" y="15"/>
                </a:lnTo>
                <a:lnTo>
                  <a:pt x="112" y="9"/>
                </a:lnTo>
                <a:lnTo>
                  <a:pt x="123" y="5"/>
                </a:lnTo>
                <a:lnTo>
                  <a:pt x="135" y="2"/>
                </a:lnTo>
                <a:lnTo>
                  <a:pt x="147" y="1"/>
                </a:lnTo>
                <a:lnTo>
                  <a:pt x="158" y="0"/>
                </a:lnTo>
                <a:lnTo>
                  <a:pt x="169" y="0"/>
                </a:lnTo>
                <a:lnTo>
                  <a:pt x="179" y="1"/>
                </a:lnTo>
                <a:lnTo>
                  <a:pt x="188" y="2"/>
                </a:lnTo>
                <a:lnTo>
                  <a:pt x="197" y="5"/>
                </a:lnTo>
                <a:lnTo>
                  <a:pt x="207" y="8"/>
                </a:lnTo>
                <a:lnTo>
                  <a:pt x="214" y="12"/>
                </a:lnTo>
                <a:lnTo>
                  <a:pt x="222" y="18"/>
                </a:lnTo>
                <a:lnTo>
                  <a:pt x="230" y="26"/>
                </a:lnTo>
                <a:lnTo>
                  <a:pt x="237" y="34"/>
                </a:lnTo>
                <a:lnTo>
                  <a:pt x="244" y="42"/>
                </a:lnTo>
                <a:lnTo>
                  <a:pt x="249" y="50"/>
                </a:lnTo>
                <a:lnTo>
                  <a:pt x="253" y="61"/>
                </a:lnTo>
                <a:lnTo>
                  <a:pt x="256" y="74"/>
                </a:lnTo>
                <a:lnTo>
                  <a:pt x="256" y="85"/>
                </a:lnTo>
                <a:lnTo>
                  <a:pt x="253" y="97"/>
                </a:lnTo>
                <a:lnTo>
                  <a:pt x="250" y="109"/>
                </a:lnTo>
                <a:lnTo>
                  <a:pt x="247" y="120"/>
                </a:lnTo>
                <a:lnTo>
                  <a:pt x="243" y="134"/>
                </a:lnTo>
                <a:lnTo>
                  <a:pt x="241" y="144"/>
                </a:lnTo>
                <a:lnTo>
                  <a:pt x="241" y="150"/>
                </a:lnTo>
                <a:lnTo>
                  <a:pt x="243" y="155"/>
                </a:lnTo>
                <a:lnTo>
                  <a:pt x="245" y="161"/>
                </a:lnTo>
                <a:lnTo>
                  <a:pt x="387" y="161"/>
                </a:lnTo>
                <a:lnTo>
                  <a:pt x="384" y="188"/>
                </a:lnTo>
                <a:lnTo>
                  <a:pt x="383" y="204"/>
                </a:lnTo>
                <a:lnTo>
                  <a:pt x="384" y="217"/>
                </a:lnTo>
                <a:lnTo>
                  <a:pt x="385" y="229"/>
                </a:lnTo>
                <a:lnTo>
                  <a:pt x="386" y="242"/>
                </a:lnTo>
                <a:lnTo>
                  <a:pt x="388" y="255"/>
                </a:lnTo>
                <a:lnTo>
                  <a:pt x="393" y="264"/>
                </a:lnTo>
                <a:lnTo>
                  <a:pt x="398" y="272"/>
                </a:lnTo>
                <a:lnTo>
                  <a:pt x="405" y="278"/>
                </a:lnTo>
                <a:lnTo>
                  <a:pt x="414" y="283"/>
                </a:lnTo>
                <a:lnTo>
                  <a:pt x="423" y="287"/>
                </a:lnTo>
                <a:lnTo>
                  <a:pt x="433" y="288"/>
                </a:lnTo>
                <a:lnTo>
                  <a:pt x="444" y="289"/>
                </a:lnTo>
                <a:lnTo>
                  <a:pt x="455" y="289"/>
                </a:lnTo>
                <a:lnTo>
                  <a:pt x="468" y="288"/>
                </a:lnTo>
                <a:lnTo>
                  <a:pt x="477" y="287"/>
                </a:lnTo>
                <a:lnTo>
                  <a:pt x="490" y="285"/>
                </a:lnTo>
                <a:lnTo>
                  <a:pt x="504" y="284"/>
                </a:lnTo>
                <a:lnTo>
                  <a:pt x="519" y="284"/>
                </a:lnTo>
                <a:lnTo>
                  <a:pt x="531" y="285"/>
                </a:lnTo>
                <a:lnTo>
                  <a:pt x="544" y="288"/>
                </a:lnTo>
                <a:lnTo>
                  <a:pt x="557" y="292"/>
                </a:lnTo>
                <a:lnTo>
                  <a:pt x="567" y="296"/>
                </a:lnTo>
                <a:lnTo>
                  <a:pt x="577" y="304"/>
                </a:lnTo>
                <a:lnTo>
                  <a:pt x="584" y="312"/>
                </a:lnTo>
                <a:lnTo>
                  <a:pt x="590" y="321"/>
                </a:lnTo>
                <a:lnTo>
                  <a:pt x="594" y="331"/>
                </a:lnTo>
                <a:lnTo>
                  <a:pt x="595" y="342"/>
                </a:lnTo>
                <a:lnTo>
                  <a:pt x="594" y="353"/>
                </a:lnTo>
                <a:lnTo>
                  <a:pt x="593" y="365"/>
                </a:lnTo>
                <a:lnTo>
                  <a:pt x="594" y="377"/>
                </a:lnTo>
                <a:lnTo>
                  <a:pt x="595" y="387"/>
                </a:lnTo>
                <a:lnTo>
                  <a:pt x="599" y="396"/>
                </a:lnTo>
                <a:lnTo>
                  <a:pt x="604" y="406"/>
                </a:lnTo>
                <a:lnTo>
                  <a:pt x="609" y="412"/>
                </a:lnTo>
                <a:lnTo>
                  <a:pt x="618" y="419"/>
                </a:lnTo>
                <a:lnTo>
                  <a:pt x="630" y="423"/>
                </a:lnTo>
                <a:lnTo>
                  <a:pt x="643" y="427"/>
                </a:lnTo>
                <a:lnTo>
                  <a:pt x="653" y="430"/>
                </a:lnTo>
                <a:lnTo>
                  <a:pt x="666" y="433"/>
                </a:lnTo>
                <a:lnTo>
                  <a:pt x="681" y="436"/>
                </a:lnTo>
                <a:lnTo>
                  <a:pt x="694" y="438"/>
                </a:lnTo>
                <a:lnTo>
                  <a:pt x="706" y="442"/>
                </a:lnTo>
                <a:lnTo>
                  <a:pt x="717" y="445"/>
                </a:lnTo>
                <a:lnTo>
                  <a:pt x="727" y="450"/>
                </a:lnTo>
                <a:lnTo>
                  <a:pt x="735" y="455"/>
                </a:lnTo>
                <a:lnTo>
                  <a:pt x="742" y="461"/>
                </a:lnTo>
                <a:lnTo>
                  <a:pt x="751" y="471"/>
                </a:lnTo>
                <a:lnTo>
                  <a:pt x="756" y="480"/>
                </a:lnTo>
                <a:lnTo>
                  <a:pt x="761" y="489"/>
                </a:lnTo>
                <a:lnTo>
                  <a:pt x="763" y="502"/>
                </a:lnTo>
                <a:lnTo>
                  <a:pt x="761" y="515"/>
                </a:lnTo>
                <a:lnTo>
                  <a:pt x="759" y="526"/>
                </a:lnTo>
                <a:lnTo>
                  <a:pt x="756" y="539"/>
                </a:lnTo>
                <a:lnTo>
                  <a:pt x="752" y="555"/>
                </a:lnTo>
                <a:lnTo>
                  <a:pt x="749" y="569"/>
                </a:lnTo>
                <a:lnTo>
                  <a:pt x="747" y="580"/>
                </a:lnTo>
                <a:lnTo>
                  <a:pt x="747" y="590"/>
                </a:lnTo>
                <a:lnTo>
                  <a:pt x="749" y="604"/>
                </a:lnTo>
                <a:lnTo>
                  <a:pt x="752" y="615"/>
                </a:lnTo>
                <a:lnTo>
                  <a:pt x="757" y="624"/>
                </a:lnTo>
                <a:lnTo>
                  <a:pt x="762" y="633"/>
                </a:lnTo>
                <a:lnTo>
                  <a:pt x="769" y="642"/>
                </a:lnTo>
                <a:lnTo>
                  <a:pt x="778" y="652"/>
                </a:lnTo>
                <a:lnTo>
                  <a:pt x="787" y="660"/>
                </a:lnTo>
                <a:lnTo>
                  <a:pt x="798" y="666"/>
                </a:lnTo>
                <a:lnTo>
                  <a:pt x="809" y="670"/>
                </a:lnTo>
                <a:lnTo>
                  <a:pt x="820" y="673"/>
                </a:lnTo>
                <a:lnTo>
                  <a:pt x="831" y="674"/>
                </a:lnTo>
                <a:lnTo>
                  <a:pt x="845" y="675"/>
                </a:lnTo>
                <a:lnTo>
                  <a:pt x="858" y="674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2952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NDÊNCIAS DO RELATÓRIO POPC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8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Consumidor Vigil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vestiga o produto, pesquisando qualidade antes de escolher / palavras chaves: confiabilidade, durabilidade, fácil manutenção e 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9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99 V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unca estivemos tão ocupados desempenhando nossos papéis, perseguindo nossos sonhos, de forma tão acelerada, só para conseguir fazer tu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10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SOS (Salve o Soc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 questão da sobrevivência no mundo é a que mais aflige essa geração / responsabilidade social / palavras chaves: ecologia, educação, é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0C0-6B96-4424-BC53-264FB9EAC8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66"/>
                </a:solidFill>
                <a:latin typeface="Arial"/>
              </a:rPr>
              <a:t>ATÉ OS ANOS 80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RIENTAÇÃO PARA OS 4 P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E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AÇA (DISTRIBUI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MOÇÃO (COMUNIC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304560" cy="343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276720" y="4800600"/>
            <a:ext cx="304560" cy="343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276720" y="5181480"/>
            <a:ext cx="304560" cy="3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AEF-C09C-4813-BA41-CFB152701B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9907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Arial"/>
              </a:rPr>
              <a:t>A PARTIR DO ANOS 90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Arial"/>
              </a:rPr>
              <a:t>ORIENTAÇÃO PARA OS 4 C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sejos e neces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VEN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odidade para comp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iálogo perma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inguagem adeq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lação CustoxBenefí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52360" cy="428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71440" cy="46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124080" y="4038480"/>
            <a:ext cx="271440" cy="390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728880" y="5410080"/>
            <a:ext cx="233640" cy="4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F99-974D-4565-94D3-AA1D182C182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8480" y="4273560"/>
            <a:ext cx="3111480" cy="151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8480" y="2749680"/>
            <a:ext cx="3111480" cy="151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2749680"/>
            <a:ext cx="3111480" cy="151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54040" y="4273560"/>
            <a:ext cx="3111480" cy="151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A FARMÁCIA DEVE SER UTILIT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utilidade da forma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utilidade de temp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térias-primas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s disponívei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s utilizávei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ando os consumi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ja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utilidade de lugar: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utilidade de po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s convenien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s podem 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mente localizado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rados com facil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200400"/>
            <a:ext cx="727200" cy="458640"/>
          </a:xfrm>
          <a:custGeom>
            <a:avLst/>
            <a:gdLst/>
            <a:ahLst/>
            <a:rect l="l" t="t" r="r" b="b"/>
            <a:pathLst>
              <a:path w="458" h="289">
                <a:moveTo>
                  <a:pt x="344" y="0"/>
                </a:moveTo>
                <a:lnTo>
                  <a:pt x="290" y="1"/>
                </a:lnTo>
                <a:lnTo>
                  <a:pt x="272" y="2"/>
                </a:lnTo>
                <a:lnTo>
                  <a:pt x="249" y="4"/>
                </a:lnTo>
                <a:lnTo>
                  <a:pt x="232" y="6"/>
                </a:lnTo>
                <a:lnTo>
                  <a:pt x="215" y="8"/>
                </a:lnTo>
                <a:lnTo>
                  <a:pt x="197" y="11"/>
                </a:lnTo>
                <a:lnTo>
                  <a:pt x="182" y="14"/>
                </a:lnTo>
                <a:lnTo>
                  <a:pt x="163" y="18"/>
                </a:lnTo>
                <a:lnTo>
                  <a:pt x="141" y="24"/>
                </a:lnTo>
                <a:lnTo>
                  <a:pt x="124" y="30"/>
                </a:lnTo>
                <a:lnTo>
                  <a:pt x="107" y="36"/>
                </a:lnTo>
                <a:lnTo>
                  <a:pt x="95" y="40"/>
                </a:lnTo>
                <a:lnTo>
                  <a:pt x="82" y="46"/>
                </a:lnTo>
                <a:lnTo>
                  <a:pt x="72" y="51"/>
                </a:lnTo>
                <a:lnTo>
                  <a:pt x="62" y="57"/>
                </a:lnTo>
                <a:lnTo>
                  <a:pt x="53" y="63"/>
                </a:lnTo>
                <a:lnTo>
                  <a:pt x="44" y="70"/>
                </a:lnTo>
                <a:lnTo>
                  <a:pt x="37" y="75"/>
                </a:lnTo>
                <a:lnTo>
                  <a:pt x="28" y="82"/>
                </a:lnTo>
                <a:lnTo>
                  <a:pt x="20" y="90"/>
                </a:lnTo>
                <a:lnTo>
                  <a:pt x="14" y="98"/>
                </a:lnTo>
                <a:lnTo>
                  <a:pt x="9" y="105"/>
                </a:lnTo>
                <a:lnTo>
                  <a:pt x="5" y="113"/>
                </a:lnTo>
                <a:lnTo>
                  <a:pt x="2" y="121"/>
                </a:lnTo>
                <a:lnTo>
                  <a:pt x="0" y="132"/>
                </a:lnTo>
                <a:lnTo>
                  <a:pt x="1" y="142"/>
                </a:lnTo>
                <a:lnTo>
                  <a:pt x="3" y="149"/>
                </a:lnTo>
                <a:lnTo>
                  <a:pt x="6" y="157"/>
                </a:lnTo>
                <a:lnTo>
                  <a:pt x="11" y="166"/>
                </a:lnTo>
                <a:lnTo>
                  <a:pt x="16" y="173"/>
                </a:lnTo>
                <a:lnTo>
                  <a:pt x="22" y="180"/>
                </a:lnTo>
                <a:lnTo>
                  <a:pt x="31" y="188"/>
                </a:lnTo>
                <a:lnTo>
                  <a:pt x="43" y="198"/>
                </a:lnTo>
                <a:lnTo>
                  <a:pt x="55" y="205"/>
                </a:lnTo>
                <a:lnTo>
                  <a:pt x="65" y="212"/>
                </a:lnTo>
                <a:lnTo>
                  <a:pt x="77" y="218"/>
                </a:lnTo>
                <a:lnTo>
                  <a:pt x="90" y="224"/>
                </a:lnTo>
                <a:lnTo>
                  <a:pt x="104" y="229"/>
                </a:lnTo>
                <a:lnTo>
                  <a:pt x="122" y="237"/>
                </a:lnTo>
                <a:lnTo>
                  <a:pt x="139" y="242"/>
                </a:lnTo>
                <a:lnTo>
                  <a:pt x="159" y="248"/>
                </a:lnTo>
                <a:lnTo>
                  <a:pt x="199" y="256"/>
                </a:lnTo>
                <a:lnTo>
                  <a:pt x="232" y="261"/>
                </a:lnTo>
                <a:lnTo>
                  <a:pt x="268" y="265"/>
                </a:lnTo>
                <a:lnTo>
                  <a:pt x="297" y="267"/>
                </a:lnTo>
                <a:lnTo>
                  <a:pt x="334" y="268"/>
                </a:lnTo>
                <a:lnTo>
                  <a:pt x="334" y="288"/>
                </a:lnTo>
                <a:lnTo>
                  <a:pt x="457" y="242"/>
                </a:lnTo>
                <a:lnTo>
                  <a:pt x="332" y="196"/>
                </a:lnTo>
                <a:lnTo>
                  <a:pt x="333" y="216"/>
                </a:lnTo>
                <a:lnTo>
                  <a:pt x="296" y="215"/>
                </a:lnTo>
                <a:lnTo>
                  <a:pt x="268" y="213"/>
                </a:lnTo>
                <a:lnTo>
                  <a:pt x="239" y="209"/>
                </a:lnTo>
                <a:lnTo>
                  <a:pt x="199" y="200"/>
                </a:lnTo>
                <a:lnTo>
                  <a:pt x="180" y="195"/>
                </a:lnTo>
                <a:lnTo>
                  <a:pt x="162" y="189"/>
                </a:lnTo>
                <a:lnTo>
                  <a:pt x="147" y="182"/>
                </a:lnTo>
                <a:lnTo>
                  <a:pt x="132" y="175"/>
                </a:lnTo>
                <a:lnTo>
                  <a:pt x="120" y="169"/>
                </a:lnTo>
                <a:lnTo>
                  <a:pt x="110" y="162"/>
                </a:lnTo>
                <a:lnTo>
                  <a:pt x="99" y="153"/>
                </a:lnTo>
                <a:lnTo>
                  <a:pt x="90" y="144"/>
                </a:lnTo>
                <a:lnTo>
                  <a:pt x="83" y="135"/>
                </a:lnTo>
                <a:lnTo>
                  <a:pt x="79" y="126"/>
                </a:lnTo>
                <a:lnTo>
                  <a:pt x="76" y="116"/>
                </a:lnTo>
                <a:lnTo>
                  <a:pt x="75" y="106"/>
                </a:lnTo>
                <a:lnTo>
                  <a:pt x="76" y="99"/>
                </a:lnTo>
                <a:lnTo>
                  <a:pt x="78" y="92"/>
                </a:lnTo>
                <a:lnTo>
                  <a:pt x="83" y="83"/>
                </a:lnTo>
                <a:lnTo>
                  <a:pt x="88" y="75"/>
                </a:lnTo>
                <a:lnTo>
                  <a:pt x="95" y="67"/>
                </a:lnTo>
                <a:lnTo>
                  <a:pt x="105" y="59"/>
                </a:lnTo>
                <a:lnTo>
                  <a:pt x="121" y="48"/>
                </a:lnTo>
                <a:lnTo>
                  <a:pt x="135" y="40"/>
                </a:lnTo>
                <a:lnTo>
                  <a:pt x="153" y="32"/>
                </a:lnTo>
                <a:lnTo>
                  <a:pt x="172" y="25"/>
                </a:lnTo>
                <a:lnTo>
                  <a:pt x="185" y="21"/>
                </a:lnTo>
                <a:lnTo>
                  <a:pt x="202" y="16"/>
                </a:lnTo>
                <a:lnTo>
                  <a:pt x="218" y="13"/>
                </a:lnTo>
                <a:lnTo>
                  <a:pt x="230" y="10"/>
                </a:lnTo>
                <a:lnTo>
                  <a:pt x="243" y="8"/>
                </a:lnTo>
                <a:lnTo>
                  <a:pt x="259" y="6"/>
                </a:lnTo>
                <a:lnTo>
                  <a:pt x="274" y="5"/>
                </a:lnTo>
                <a:lnTo>
                  <a:pt x="294" y="3"/>
                </a:lnTo>
                <a:lnTo>
                  <a:pt x="344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528920" cy="642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1185840" cy="116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162920" y="2209680"/>
            <a:ext cx="129060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C04-4CAF-49DA-A7A9-81318C2668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</a:rPr>
              <a:t>NOVAS FERRAMENTAS DO MARKETING DE VAREJ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8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4 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-248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RELACIONAMENTO - serviços/experiência de comp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-248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RELEVÂNCIA - aspectos da especialização (mix de produtos, atendimento, etc), aspectos do merchandising e exposição dos produ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-248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RECONHECIMENTO - pela importância do cliente ou de sua fidelidade através do tem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-248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EFICIÊNCIA (retrenchment) - por meio de tecnologia ou conveniê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 algn="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3DB-15DA-45B1-804A-1DC691452D5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ECISÃO DE PRODUTOS/MERCADORI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Consider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9966"/>
                </a:solidFill>
                <a:uFillTx/>
                <a:latin typeface="Tahoma"/>
              </a:rPr>
              <a:t>Amplitude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:  número médio de linhas de produtos diferentes que existem dentro de um compo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9966"/>
                </a:solidFill>
                <a:uFillTx/>
                <a:latin typeface="Tahoma"/>
              </a:rPr>
              <a:t>Profundidade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: número médio de ítens dentro de cada linh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9966"/>
                </a:solidFill>
                <a:uFillTx/>
                <a:latin typeface="Tahoma"/>
              </a:rPr>
              <a:t>Consistência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: similaridade entre as várias linhas de produto, no uso final, nos requisitos de marke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0720" indent="-210240">
              <a:spcBef>
                <a:spcPts val="400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9966"/>
                </a:solidFill>
                <a:latin typeface="Tahoma"/>
              </a:rPr>
              <a:t>lojas de especialidade</a:t>
            </a:r>
            <a:r>
              <a:rPr b="1" i="1" lang="pt-BR" sz="1600" spc="-1" strike="noStrike">
                <a:solidFill>
                  <a:srgbClr val="ff9966"/>
                </a:solidFill>
                <a:latin typeface="Tahoma"/>
              </a:rPr>
              <a:t> (se concentram em  uma ou poucas  linhas de produto): devem criar um mix profundo de mercadorias para responder às expectativas dos consumidor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0720" indent="-210240">
              <a:spcBef>
                <a:spcPts val="400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9966"/>
                </a:solidFill>
                <a:latin typeface="Tahoma"/>
              </a:rPr>
              <a:t>lojas de departamento, lojas de desconto de mercadorias em geral:</a:t>
            </a:r>
            <a:r>
              <a:rPr b="1" i="1" lang="pt-BR" sz="1600" spc="-1" strike="noStrike">
                <a:solidFill>
                  <a:srgbClr val="ff9966"/>
                </a:solidFill>
                <a:latin typeface="Tahoma"/>
              </a:rPr>
              <a:t>grande sortimento de mercadorias para atrair os consumidor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07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O CONSUMIDOR ESTÁ INTERESSADO TANTO NA VARIEDADE DOS PRODUTOS QUANTO NA QUALIDA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2270160"/>
            <a:ext cx="549000" cy="244440"/>
            <a:chOff x="380880" y="2270160"/>
            <a:chExt cx="549000" cy="244440"/>
          </a:xfrm>
        </p:grpSpPr>
        <p:sp>
          <p:nvSpPr>
            <p:cNvPr id="225" name=""/>
            <p:cNvSpPr/>
            <p:nvPr/>
          </p:nvSpPr>
          <p:spPr>
            <a:xfrm>
              <a:off x="623520" y="227160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lnTo>
                    <a:pt x="14" y="26"/>
                  </a:lnTo>
                  <a:lnTo>
                    <a:pt x="14" y="5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0880" y="2270160"/>
              <a:ext cx="549000" cy="244440"/>
              <a:chOff x="380880" y="2270160"/>
              <a:chExt cx="549000" cy="24444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880" y="2270160"/>
                <a:ext cx="549000" cy="201600"/>
              </a:xfrm>
              <a:custGeom>
                <a:avLst/>
                <a:gdLst/>
                <a:ahLst/>
                <a:rect l="l" t="t" r="r" b="b"/>
                <a:pathLst>
                  <a:path w="346" h="127">
                    <a:moveTo>
                      <a:pt x="152" y="0"/>
                    </a:moveTo>
                    <a:lnTo>
                      <a:pt x="345" y="63"/>
                    </a:lnTo>
                    <a:lnTo>
                      <a:pt x="228" y="126"/>
                    </a:lnTo>
                    <a:lnTo>
                      <a:pt x="213" y="99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167" y="27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42680" y="2368440"/>
                <a:ext cx="187200" cy="146160"/>
              </a:xfrm>
              <a:custGeom>
                <a:avLst/>
                <a:gdLst/>
                <a:ahLst/>
                <a:rect l="l" t="t" r="r" b="b"/>
                <a:pathLst>
                  <a:path w="118" h="92">
                    <a:moveTo>
                      <a:pt x="117" y="0"/>
                    </a:moveTo>
                    <a:lnTo>
                      <a:pt x="0" y="63"/>
                    </a:lnTo>
                    <a:lnTo>
                      <a:pt x="0" y="91"/>
                    </a:lnTo>
                    <a:lnTo>
                      <a:pt x="117" y="27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8920" y="2425680"/>
                <a:ext cx="25200" cy="88920"/>
              </a:xfrm>
              <a:custGeom>
                <a:avLst/>
                <a:gdLst/>
                <a:ahLst/>
                <a:rect l="l" t="t" r="r" b="b"/>
                <a:pathLst>
                  <a:path w="16" h="56">
                    <a:moveTo>
                      <a:pt x="15" y="2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5" y="55"/>
                    </a:lnTo>
                    <a:lnTo>
                      <a:pt x="15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2560" y="2425680"/>
                <a:ext cx="307800" cy="4608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193" y="0"/>
                    </a:moveTo>
                    <a:lnTo>
                      <a:pt x="19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0880" y="2313000"/>
                <a:ext cx="33120" cy="15876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0" y="0"/>
                    </a:moveTo>
                    <a:lnTo>
                      <a:pt x="20" y="72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80880" y="1600200"/>
            <a:ext cx="549000" cy="244440"/>
            <a:chOff x="380880" y="1600200"/>
            <a:chExt cx="549000" cy="244440"/>
          </a:xfrm>
        </p:grpSpPr>
        <p:sp>
          <p:nvSpPr>
            <p:cNvPr id="233" name=""/>
            <p:cNvSpPr/>
            <p:nvPr/>
          </p:nvSpPr>
          <p:spPr>
            <a:xfrm>
              <a:off x="623520" y="160200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lnTo>
                    <a:pt x="14" y="26"/>
                  </a:lnTo>
                  <a:lnTo>
                    <a:pt x="14" y="5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80880" y="1600200"/>
              <a:ext cx="549000" cy="244440"/>
              <a:chOff x="380880" y="1600200"/>
              <a:chExt cx="549000" cy="244440"/>
            </a:xfrm>
          </p:grpSpPr>
          <p:sp>
            <p:nvSpPr>
              <p:cNvPr id="235" name=""/>
              <p:cNvSpPr/>
              <p:nvPr/>
            </p:nvSpPr>
            <p:spPr>
              <a:xfrm>
                <a:off x="380880" y="1600200"/>
                <a:ext cx="549000" cy="201600"/>
              </a:xfrm>
              <a:custGeom>
                <a:avLst/>
                <a:gdLst/>
                <a:ahLst/>
                <a:rect l="l" t="t" r="r" b="b"/>
                <a:pathLst>
                  <a:path w="346" h="127">
                    <a:moveTo>
                      <a:pt x="152" y="0"/>
                    </a:moveTo>
                    <a:lnTo>
                      <a:pt x="345" y="63"/>
                    </a:lnTo>
                    <a:lnTo>
                      <a:pt x="228" y="126"/>
                    </a:lnTo>
                    <a:lnTo>
                      <a:pt x="213" y="99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167" y="27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2680" y="1698840"/>
                <a:ext cx="187200" cy="145800"/>
              </a:xfrm>
              <a:custGeom>
                <a:avLst/>
                <a:gdLst/>
                <a:ahLst/>
                <a:rect l="l" t="t" r="r" b="b"/>
                <a:pathLst>
                  <a:path w="118" h="92">
                    <a:moveTo>
                      <a:pt x="117" y="0"/>
                    </a:moveTo>
                    <a:lnTo>
                      <a:pt x="0" y="63"/>
                    </a:lnTo>
                    <a:lnTo>
                      <a:pt x="0" y="91"/>
                    </a:lnTo>
                    <a:lnTo>
                      <a:pt x="117" y="27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8920" y="1755720"/>
                <a:ext cx="25200" cy="88920"/>
              </a:xfrm>
              <a:custGeom>
                <a:avLst/>
                <a:gdLst/>
                <a:ahLst/>
                <a:rect l="l" t="t" r="r" b="b"/>
                <a:pathLst>
                  <a:path w="16" h="56">
                    <a:moveTo>
                      <a:pt x="15" y="2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5" y="55"/>
                    </a:lnTo>
                    <a:lnTo>
                      <a:pt x="15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60" y="1755720"/>
                <a:ext cx="307800" cy="4608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193" y="0"/>
                    </a:moveTo>
                    <a:lnTo>
                      <a:pt x="19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880" y="1643040"/>
                <a:ext cx="33120" cy="15876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0" y="0"/>
                    </a:moveTo>
                    <a:lnTo>
                      <a:pt x="20" y="72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380880" y="2955960"/>
            <a:ext cx="549000" cy="244440"/>
            <a:chOff x="380880" y="2955960"/>
            <a:chExt cx="549000" cy="244440"/>
          </a:xfrm>
        </p:grpSpPr>
        <p:sp>
          <p:nvSpPr>
            <p:cNvPr id="241" name=""/>
            <p:cNvSpPr/>
            <p:nvPr/>
          </p:nvSpPr>
          <p:spPr>
            <a:xfrm>
              <a:off x="623520" y="2957400"/>
              <a:ext cx="23760" cy="8604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lnTo>
                    <a:pt x="14" y="26"/>
                  </a:lnTo>
                  <a:lnTo>
                    <a:pt x="14" y="5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80880" y="2955960"/>
              <a:ext cx="549000" cy="244440"/>
              <a:chOff x="380880" y="2955960"/>
              <a:chExt cx="549000" cy="244440"/>
            </a:xfrm>
          </p:grpSpPr>
          <p:sp>
            <p:nvSpPr>
              <p:cNvPr id="243" name=""/>
              <p:cNvSpPr/>
              <p:nvPr/>
            </p:nvSpPr>
            <p:spPr>
              <a:xfrm>
                <a:off x="380880" y="2955960"/>
                <a:ext cx="549000" cy="201600"/>
              </a:xfrm>
              <a:custGeom>
                <a:avLst/>
                <a:gdLst/>
                <a:ahLst/>
                <a:rect l="l" t="t" r="r" b="b"/>
                <a:pathLst>
                  <a:path w="346" h="127">
                    <a:moveTo>
                      <a:pt x="152" y="0"/>
                    </a:moveTo>
                    <a:lnTo>
                      <a:pt x="345" y="63"/>
                    </a:lnTo>
                    <a:lnTo>
                      <a:pt x="228" y="126"/>
                    </a:lnTo>
                    <a:lnTo>
                      <a:pt x="213" y="99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167" y="27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2680" y="3054240"/>
                <a:ext cx="187200" cy="146160"/>
              </a:xfrm>
              <a:custGeom>
                <a:avLst/>
                <a:gdLst/>
                <a:ahLst/>
                <a:rect l="l" t="t" r="r" b="b"/>
                <a:pathLst>
                  <a:path w="118" h="92">
                    <a:moveTo>
                      <a:pt x="117" y="0"/>
                    </a:moveTo>
                    <a:lnTo>
                      <a:pt x="0" y="63"/>
                    </a:lnTo>
                    <a:lnTo>
                      <a:pt x="0" y="91"/>
                    </a:lnTo>
                    <a:lnTo>
                      <a:pt x="117" y="27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8920" y="3111480"/>
                <a:ext cx="25200" cy="88920"/>
              </a:xfrm>
              <a:custGeom>
                <a:avLst/>
                <a:gdLst/>
                <a:ahLst/>
                <a:rect l="l" t="t" r="r" b="b"/>
                <a:pathLst>
                  <a:path w="16" h="56">
                    <a:moveTo>
                      <a:pt x="15" y="2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5" y="55"/>
                    </a:lnTo>
                    <a:lnTo>
                      <a:pt x="15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2560" y="3111480"/>
                <a:ext cx="307800" cy="4608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193" y="0"/>
                    </a:moveTo>
                    <a:lnTo>
                      <a:pt x="19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80" y="2998800"/>
                <a:ext cx="33120" cy="15876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0" y="0"/>
                    </a:moveTo>
                    <a:lnTo>
                      <a:pt x="20" y="72"/>
                    </a:lnTo>
                    <a:lnTo>
                      <a:pt x="20" y="99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476-250B-4CC1-A03A-66B11F04782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1360"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4481280" y="319248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79720" y="2435400"/>
            <a:ext cx="2082960" cy="2619360"/>
          </a:xfrm>
          <a:custGeom>
            <a:avLst/>
            <a:gdLst/>
            <a:ahLst/>
            <a:rect l="l" t="t" r="r" b="b"/>
            <a:pathLst>
              <a:path w="1312" h="1650">
                <a:moveTo>
                  <a:pt x="500" y="216"/>
                </a:moveTo>
                <a:lnTo>
                  <a:pt x="518" y="219"/>
                </a:lnTo>
                <a:lnTo>
                  <a:pt x="542" y="223"/>
                </a:lnTo>
                <a:lnTo>
                  <a:pt x="565" y="229"/>
                </a:lnTo>
                <a:lnTo>
                  <a:pt x="582" y="233"/>
                </a:lnTo>
                <a:lnTo>
                  <a:pt x="602" y="238"/>
                </a:lnTo>
                <a:lnTo>
                  <a:pt x="621" y="244"/>
                </a:lnTo>
                <a:lnTo>
                  <a:pt x="641" y="250"/>
                </a:lnTo>
                <a:lnTo>
                  <a:pt x="659" y="255"/>
                </a:lnTo>
                <a:lnTo>
                  <a:pt x="680" y="263"/>
                </a:lnTo>
                <a:lnTo>
                  <a:pt x="704" y="273"/>
                </a:lnTo>
                <a:lnTo>
                  <a:pt x="725" y="281"/>
                </a:lnTo>
                <a:lnTo>
                  <a:pt x="745" y="290"/>
                </a:lnTo>
                <a:lnTo>
                  <a:pt x="767" y="300"/>
                </a:lnTo>
                <a:lnTo>
                  <a:pt x="789" y="311"/>
                </a:lnTo>
                <a:lnTo>
                  <a:pt x="809" y="321"/>
                </a:lnTo>
                <a:lnTo>
                  <a:pt x="828" y="333"/>
                </a:lnTo>
                <a:lnTo>
                  <a:pt x="845" y="343"/>
                </a:lnTo>
                <a:lnTo>
                  <a:pt x="862" y="355"/>
                </a:lnTo>
                <a:lnTo>
                  <a:pt x="881" y="366"/>
                </a:lnTo>
                <a:lnTo>
                  <a:pt x="902" y="381"/>
                </a:lnTo>
                <a:lnTo>
                  <a:pt x="921" y="395"/>
                </a:lnTo>
                <a:lnTo>
                  <a:pt x="939" y="409"/>
                </a:lnTo>
                <a:lnTo>
                  <a:pt x="956" y="421"/>
                </a:lnTo>
                <a:lnTo>
                  <a:pt x="983" y="444"/>
                </a:lnTo>
                <a:lnTo>
                  <a:pt x="1011" y="470"/>
                </a:lnTo>
                <a:lnTo>
                  <a:pt x="1033" y="490"/>
                </a:lnTo>
                <a:lnTo>
                  <a:pt x="1059" y="519"/>
                </a:lnTo>
                <a:lnTo>
                  <a:pt x="1077" y="540"/>
                </a:lnTo>
                <a:lnTo>
                  <a:pt x="1097" y="564"/>
                </a:lnTo>
                <a:lnTo>
                  <a:pt x="1119" y="591"/>
                </a:lnTo>
                <a:lnTo>
                  <a:pt x="1137" y="617"/>
                </a:lnTo>
                <a:lnTo>
                  <a:pt x="1155" y="646"/>
                </a:lnTo>
                <a:lnTo>
                  <a:pt x="1174" y="674"/>
                </a:lnTo>
                <a:lnTo>
                  <a:pt x="1190" y="703"/>
                </a:lnTo>
                <a:lnTo>
                  <a:pt x="1205" y="729"/>
                </a:lnTo>
                <a:lnTo>
                  <a:pt x="1220" y="761"/>
                </a:lnTo>
                <a:lnTo>
                  <a:pt x="1234" y="792"/>
                </a:lnTo>
                <a:lnTo>
                  <a:pt x="1246" y="824"/>
                </a:lnTo>
                <a:lnTo>
                  <a:pt x="1258" y="859"/>
                </a:lnTo>
                <a:lnTo>
                  <a:pt x="1273" y="902"/>
                </a:lnTo>
                <a:lnTo>
                  <a:pt x="1283" y="942"/>
                </a:lnTo>
                <a:lnTo>
                  <a:pt x="1293" y="982"/>
                </a:lnTo>
                <a:lnTo>
                  <a:pt x="1298" y="1022"/>
                </a:lnTo>
                <a:lnTo>
                  <a:pt x="1305" y="1069"/>
                </a:lnTo>
                <a:lnTo>
                  <a:pt x="1310" y="1128"/>
                </a:lnTo>
                <a:lnTo>
                  <a:pt x="1311" y="1173"/>
                </a:lnTo>
                <a:lnTo>
                  <a:pt x="1310" y="1218"/>
                </a:lnTo>
                <a:lnTo>
                  <a:pt x="1306" y="1260"/>
                </a:lnTo>
                <a:lnTo>
                  <a:pt x="1301" y="1300"/>
                </a:lnTo>
                <a:lnTo>
                  <a:pt x="1296" y="1342"/>
                </a:lnTo>
                <a:lnTo>
                  <a:pt x="1287" y="1385"/>
                </a:lnTo>
                <a:lnTo>
                  <a:pt x="1275" y="1431"/>
                </a:lnTo>
                <a:lnTo>
                  <a:pt x="1260" y="1479"/>
                </a:lnTo>
                <a:lnTo>
                  <a:pt x="1245" y="1522"/>
                </a:lnTo>
                <a:lnTo>
                  <a:pt x="1228" y="1565"/>
                </a:lnTo>
                <a:lnTo>
                  <a:pt x="1203" y="1607"/>
                </a:lnTo>
                <a:lnTo>
                  <a:pt x="1179" y="1649"/>
                </a:lnTo>
                <a:lnTo>
                  <a:pt x="792" y="1426"/>
                </a:lnTo>
                <a:lnTo>
                  <a:pt x="813" y="1384"/>
                </a:lnTo>
                <a:lnTo>
                  <a:pt x="827" y="1352"/>
                </a:lnTo>
                <a:lnTo>
                  <a:pt x="837" y="1317"/>
                </a:lnTo>
                <a:lnTo>
                  <a:pt x="846" y="1283"/>
                </a:lnTo>
                <a:lnTo>
                  <a:pt x="852" y="1252"/>
                </a:lnTo>
                <a:lnTo>
                  <a:pt x="854" y="1221"/>
                </a:lnTo>
                <a:lnTo>
                  <a:pt x="857" y="1191"/>
                </a:lnTo>
                <a:lnTo>
                  <a:pt x="857" y="1159"/>
                </a:lnTo>
                <a:lnTo>
                  <a:pt x="855" y="1122"/>
                </a:lnTo>
                <a:lnTo>
                  <a:pt x="850" y="1086"/>
                </a:lnTo>
                <a:lnTo>
                  <a:pt x="843" y="1046"/>
                </a:lnTo>
                <a:lnTo>
                  <a:pt x="834" y="1014"/>
                </a:lnTo>
                <a:lnTo>
                  <a:pt x="820" y="978"/>
                </a:lnTo>
                <a:lnTo>
                  <a:pt x="807" y="948"/>
                </a:lnTo>
                <a:lnTo>
                  <a:pt x="791" y="918"/>
                </a:lnTo>
                <a:lnTo>
                  <a:pt x="777" y="895"/>
                </a:lnTo>
                <a:lnTo>
                  <a:pt x="764" y="876"/>
                </a:lnTo>
                <a:lnTo>
                  <a:pt x="750" y="857"/>
                </a:lnTo>
                <a:lnTo>
                  <a:pt x="734" y="838"/>
                </a:lnTo>
                <a:lnTo>
                  <a:pt x="716" y="818"/>
                </a:lnTo>
                <a:lnTo>
                  <a:pt x="701" y="804"/>
                </a:lnTo>
                <a:lnTo>
                  <a:pt x="684" y="787"/>
                </a:lnTo>
                <a:lnTo>
                  <a:pt x="667" y="772"/>
                </a:lnTo>
                <a:lnTo>
                  <a:pt x="647" y="757"/>
                </a:lnTo>
                <a:lnTo>
                  <a:pt x="623" y="742"/>
                </a:lnTo>
                <a:lnTo>
                  <a:pt x="603" y="728"/>
                </a:lnTo>
                <a:lnTo>
                  <a:pt x="586" y="719"/>
                </a:lnTo>
                <a:lnTo>
                  <a:pt x="561" y="704"/>
                </a:lnTo>
                <a:lnTo>
                  <a:pt x="540" y="696"/>
                </a:lnTo>
                <a:lnTo>
                  <a:pt x="521" y="689"/>
                </a:lnTo>
                <a:lnTo>
                  <a:pt x="501" y="683"/>
                </a:lnTo>
                <a:lnTo>
                  <a:pt x="471" y="676"/>
                </a:lnTo>
                <a:lnTo>
                  <a:pt x="443" y="671"/>
                </a:lnTo>
                <a:lnTo>
                  <a:pt x="414" y="668"/>
                </a:lnTo>
                <a:lnTo>
                  <a:pt x="385" y="666"/>
                </a:lnTo>
                <a:lnTo>
                  <a:pt x="369" y="665"/>
                </a:lnTo>
                <a:lnTo>
                  <a:pt x="369" y="905"/>
                </a:lnTo>
                <a:lnTo>
                  <a:pt x="0" y="459"/>
                </a:lnTo>
                <a:lnTo>
                  <a:pt x="368" y="0"/>
                </a:lnTo>
                <a:lnTo>
                  <a:pt x="368" y="206"/>
                </a:lnTo>
                <a:lnTo>
                  <a:pt x="388" y="207"/>
                </a:lnTo>
                <a:lnTo>
                  <a:pt x="417" y="208"/>
                </a:lnTo>
                <a:lnTo>
                  <a:pt x="447" y="210"/>
                </a:lnTo>
                <a:lnTo>
                  <a:pt x="476" y="213"/>
                </a:lnTo>
                <a:lnTo>
                  <a:pt x="500" y="21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3480" y="4365720"/>
            <a:ext cx="2765520" cy="1452600"/>
          </a:xfrm>
          <a:custGeom>
            <a:avLst/>
            <a:gdLst/>
            <a:ahLst/>
            <a:rect l="l" t="t" r="r" b="b"/>
            <a:pathLst>
              <a:path w="1742" h="915">
                <a:moveTo>
                  <a:pt x="875" y="903"/>
                </a:moveTo>
                <a:lnTo>
                  <a:pt x="893" y="900"/>
                </a:lnTo>
                <a:lnTo>
                  <a:pt x="917" y="896"/>
                </a:lnTo>
                <a:lnTo>
                  <a:pt x="941" y="891"/>
                </a:lnTo>
                <a:lnTo>
                  <a:pt x="958" y="887"/>
                </a:lnTo>
                <a:lnTo>
                  <a:pt x="978" y="882"/>
                </a:lnTo>
                <a:lnTo>
                  <a:pt x="998" y="876"/>
                </a:lnTo>
                <a:lnTo>
                  <a:pt x="1017" y="871"/>
                </a:lnTo>
                <a:lnTo>
                  <a:pt x="1035" y="865"/>
                </a:lnTo>
                <a:lnTo>
                  <a:pt x="1055" y="857"/>
                </a:lnTo>
                <a:lnTo>
                  <a:pt x="1080" y="848"/>
                </a:lnTo>
                <a:lnTo>
                  <a:pt x="1101" y="839"/>
                </a:lnTo>
                <a:lnTo>
                  <a:pt x="1121" y="831"/>
                </a:lnTo>
                <a:lnTo>
                  <a:pt x="1144" y="821"/>
                </a:lnTo>
                <a:lnTo>
                  <a:pt x="1166" y="810"/>
                </a:lnTo>
                <a:lnTo>
                  <a:pt x="1186" y="800"/>
                </a:lnTo>
                <a:lnTo>
                  <a:pt x="1204" y="788"/>
                </a:lnTo>
                <a:lnTo>
                  <a:pt x="1221" y="778"/>
                </a:lnTo>
                <a:lnTo>
                  <a:pt x="1238" y="766"/>
                </a:lnTo>
                <a:lnTo>
                  <a:pt x="1257" y="755"/>
                </a:lnTo>
                <a:lnTo>
                  <a:pt x="1278" y="741"/>
                </a:lnTo>
                <a:lnTo>
                  <a:pt x="1297" y="727"/>
                </a:lnTo>
                <a:lnTo>
                  <a:pt x="1315" y="713"/>
                </a:lnTo>
                <a:lnTo>
                  <a:pt x="1331" y="701"/>
                </a:lnTo>
                <a:lnTo>
                  <a:pt x="1359" y="679"/>
                </a:lnTo>
                <a:lnTo>
                  <a:pt x="1384" y="657"/>
                </a:lnTo>
                <a:lnTo>
                  <a:pt x="1409" y="632"/>
                </a:lnTo>
                <a:lnTo>
                  <a:pt x="1435" y="603"/>
                </a:lnTo>
                <a:lnTo>
                  <a:pt x="1453" y="582"/>
                </a:lnTo>
                <a:lnTo>
                  <a:pt x="1473" y="558"/>
                </a:lnTo>
                <a:lnTo>
                  <a:pt x="1495" y="533"/>
                </a:lnTo>
                <a:lnTo>
                  <a:pt x="1514" y="507"/>
                </a:lnTo>
                <a:lnTo>
                  <a:pt x="1532" y="479"/>
                </a:lnTo>
                <a:lnTo>
                  <a:pt x="1554" y="447"/>
                </a:lnTo>
                <a:lnTo>
                  <a:pt x="1741" y="556"/>
                </a:lnTo>
                <a:lnTo>
                  <a:pt x="1558" y="0"/>
                </a:lnTo>
                <a:lnTo>
                  <a:pt x="962" y="105"/>
                </a:lnTo>
                <a:lnTo>
                  <a:pt x="1162" y="219"/>
                </a:lnTo>
                <a:lnTo>
                  <a:pt x="1145" y="243"/>
                </a:lnTo>
                <a:lnTo>
                  <a:pt x="1127" y="264"/>
                </a:lnTo>
                <a:lnTo>
                  <a:pt x="1109" y="285"/>
                </a:lnTo>
                <a:lnTo>
                  <a:pt x="1091" y="305"/>
                </a:lnTo>
                <a:lnTo>
                  <a:pt x="1076" y="320"/>
                </a:lnTo>
                <a:lnTo>
                  <a:pt x="1060" y="337"/>
                </a:lnTo>
                <a:lnTo>
                  <a:pt x="1042" y="351"/>
                </a:lnTo>
                <a:lnTo>
                  <a:pt x="1022" y="366"/>
                </a:lnTo>
                <a:lnTo>
                  <a:pt x="999" y="381"/>
                </a:lnTo>
                <a:lnTo>
                  <a:pt x="979" y="394"/>
                </a:lnTo>
                <a:lnTo>
                  <a:pt x="962" y="404"/>
                </a:lnTo>
                <a:lnTo>
                  <a:pt x="937" y="418"/>
                </a:lnTo>
                <a:lnTo>
                  <a:pt x="915" y="427"/>
                </a:lnTo>
                <a:lnTo>
                  <a:pt x="896" y="433"/>
                </a:lnTo>
                <a:lnTo>
                  <a:pt x="876" y="440"/>
                </a:lnTo>
                <a:lnTo>
                  <a:pt x="847" y="448"/>
                </a:lnTo>
                <a:lnTo>
                  <a:pt x="818" y="452"/>
                </a:lnTo>
                <a:lnTo>
                  <a:pt x="789" y="455"/>
                </a:lnTo>
                <a:lnTo>
                  <a:pt x="746" y="457"/>
                </a:lnTo>
                <a:lnTo>
                  <a:pt x="691" y="458"/>
                </a:lnTo>
                <a:lnTo>
                  <a:pt x="648" y="452"/>
                </a:lnTo>
                <a:lnTo>
                  <a:pt x="609" y="443"/>
                </a:lnTo>
                <a:lnTo>
                  <a:pt x="564" y="430"/>
                </a:lnTo>
                <a:lnTo>
                  <a:pt x="524" y="413"/>
                </a:lnTo>
                <a:lnTo>
                  <a:pt x="484" y="393"/>
                </a:lnTo>
                <a:lnTo>
                  <a:pt x="448" y="371"/>
                </a:lnTo>
                <a:lnTo>
                  <a:pt x="413" y="340"/>
                </a:lnTo>
                <a:lnTo>
                  <a:pt x="0" y="577"/>
                </a:lnTo>
                <a:lnTo>
                  <a:pt x="17" y="597"/>
                </a:lnTo>
                <a:lnTo>
                  <a:pt x="41" y="620"/>
                </a:lnTo>
                <a:lnTo>
                  <a:pt x="61" y="640"/>
                </a:lnTo>
                <a:lnTo>
                  <a:pt x="81" y="659"/>
                </a:lnTo>
                <a:lnTo>
                  <a:pt x="101" y="678"/>
                </a:lnTo>
                <a:lnTo>
                  <a:pt x="125" y="698"/>
                </a:lnTo>
                <a:lnTo>
                  <a:pt x="146" y="715"/>
                </a:lnTo>
                <a:lnTo>
                  <a:pt x="168" y="731"/>
                </a:lnTo>
                <a:lnTo>
                  <a:pt x="193" y="747"/>
                </a:lnTo>
                <a:lnTo>
                  <a:pt x="217" y="764"/>
                </a:lnTo>
                <a:lnTo>
                  <a:pt x="242" y="780"/>
                </a:lnTo>
                <a:lnTo>
                  <a:pt x="265" y="793"/>
                </a:lnTo>
                <a:lnTo>
                  <a:pt x="288" y="806"/>
                </a:lnTo>
                <a:lnTo>
                  <a:pt x="310" y="817"/>
                </a:lnTo>
                <a:lnTo>
                  <a:pt x="340" y="831"/>
                </a:lnTo>
                <a:lnTo>
                  <a:pt x="368" y="842"/>
                </a:lnTo>
                <a:lnTo>
                  <a:pt x="400" y="854"/>
                </a:lnTo>
                <a:lnTo>
                  <a:pt x="424" y="863"/>
                </a:lnTo>
                <a:lnTo>
                  <a:pt x="447" y="872"/>
                </a:lnTo>
                <a:lnTo>
                  <a:pt x="474" y="880"/>
                </a:lnTo>
                <a:lnTo>
                  <a:pt x="500" y="887"/>
                </a:lnTo>
                <a:lnTo>
                  <a:pt x="526" y="893"/>
                </a:lnTo>
                <a:lnTo>
                  <a:pt x="556" y="899"/>
                </a:lnTo>
                <a:lnTo>
                  <a:pt x="586" y="904"/>
                </a:lnTo>
                <a:lnTo>
                  <a:pt x="617" y="908"/>
                </a:lnTo>
                <a:lnTo>
                  <a:pt x="649" y="911"/>
                </a:lnTo>
                <a:lnTo>
                  <a:pt x="673" y="912"/>
                </a:lnTo>
                <a:lnTo>
                  <a:pt x="706" y="914"/>
                </a:lnTo>
                <a:lnTo>
                  <a:pt x="738" y="914"/>
                </a:lnTo>
                <a:lnTo>
                  <a:pt x="764" y="913"/>
                </a:lnTo>
                <a:lnTo>
                  <a:pt x="792" y="912"/>
                </a:lnTo>
                <a:lnTo>
                  <a:pt x="823" y="910"/>
                </a:lnTo>
                <a:lnTo>
                  <a:pt x="851" y="906"/>
                </a:lnTo>
                <a:lnTo>
                  <a:pt x="875" y="903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95760" y="2787480"/>
            <a:ext cx="1400040" cy="2594160"/>
          </a:xfrm>
          <a:custGeom>
            <a:avLst/>
            <a:gdLst/>
            <a:ahLst/>
            <a:rect l="l" t="t" r="r" b="b"/>
            <a:pathLst>
              <a:path w="882" h="1634">
                <a:moveTo>
                  <a:pt x="881" y="0"/>
                </a:moveTo>
                <a:lnTo>
                  <a:pt x="862" y="3"/>
                </a:lnTo>
                <a:lnTo>
                  <a:pt x="843" y="6"/>
                </a:lnTo>
                <a:lnTo>
                  <a:pt x="817" y="12"/>
                </a:lnTo>
                <a:lnTo>
                  <a:pt x="799" y="16"/>
                </a:lnTo>
                <a:lnTo>
                  <a:pt x="779" y="22"/>
                </a:lnTo>
                <a:lnTo>
                  <a:pt x="760" y="28"/>
                </a:lnTo>
                <a:lnTo>
                  <a:pt x="740" y="33"/>
                </a:lnTo>
                <a:lnTo>
                  <a:pt x="721" y="39"/>
                </a:lnTo>
                <a:lnTo>
                  <a:pt x="701" y="47"/>
                </a:lnTo>
                <a:lnTo>
                  <a:pt x="677" y="56"/>
                </a:lnTo>
                <a:lnTo>
                  <a:pt x="657" y="65"/>
                </a:lnTo>
                <a:lnTo>
                  <a:pt x="636" y="74"/>
                </a:lnTo>
                <a:lnTo>
                  <a:pt x="614" y="84"/>
                </a:lnTo>
                <a:lnTo>
                  <a:pt x="592" y="95"/>
                </a:lnTo>
                <a:lnTo>
                  <a:pt x="572" y="105"/>
                </a:lnTo>
                <a:lnTo>
                  <a:pt x="553" y="117"/>
                </a:lnTo>
                <a:lnTo>
                  <a:pt x="536" y="127"/>
                </a:lnTo>
                <a:lnTo>
                  <a:pt x="519" y="138"/>
                </a:lnTo>
                <a:lnTo>
                  <a:pt x="501" y="149"/>
                </a:lnTo>
                <a:lnTo>
                  <a:pt x="480" y="163"/>
                </a:lnTo>
                <a:lnTo>
                  <a:pt x="461" y="178"/>
                </a:lnTo>
                <a:lnTo>
                  <a:pt x="443" y="192"/>
                </a:lnTo>
                <a:lnTo>
                  <a:pt x="426" y="204"/>
                </a:lnTo>
                <a:lnTo>
                  <a:pt x="398" y="227"/>
                </a:lnTo>
                <a:lnTo>
                  <a:pt x="370" y="254"/>
                </a:lnTo>
                <a:lnTo>
                  <a:pt x="349" y="274"/>
                </a:lnTo>
                <a:lnTo>
                  <a:pt x="323" y="303"/>
                </a:lnTo>
                <a:lnTo>
                  <a:pt x="305" y="324"/>
                </a:lnTo>
                <a:lnTo>
                  <a:pt x="285" y="348"/>
                </a:lnTo>
                <a:lnTo>
                  <a:pt x="263" y="375"/>
                </a:lnTo>
                <a:lnTo>
                  <a:pt x="245" y="400"/>
                </a:lnTo>
                <a:lnTo>
                  <a:pt x="227" y="429"/>
                </a:lnTo>
                <a:lnTo>
                  <a:pt x="209" y="457"/>
                </a:lnTo>
                <a:lnTo>
                  <a:pt x="191" y="487"/>
                </a:lnTo>
                <a:lnTo>
                  <a:pt x="176" y="513"/>
                </a:lnTo>
                <a:lnTo>
                  <a:pt x="162" y="545"/>
                </a:lnTo>
                <a:lnTo>
                  <a:pt x="148" y="576"/>
                </a:lnTo>
                <a:lnTo>
                  <a:pt x="136" y="608"/>
                </a:lnTo>
                <a:lnTo>
                  <a:pt x="124" y="643"/>
                </a:lnTo>
                <a:lnTo>
                  <a:pt x="109" y="685"/>
                </a:lnTo>
                <a:lnTo>
                  <a:pt x="99" y="725"/>
                </a:lnTo>
                <a:lnTo>
                  <a:pt x="89" y="766"/>
                </a:lnTo>
                <a:lnTo>
                  <a:pt x="84" y="806"/>
                </a:lnTo>
                <a:lnTo>
                  <a:pt x="77" y="853"/>
                </a:lnTo>
                <a:lnTo>
                  <a:pt x="73" y="911"/>
                </a:lnTo>
                <a:lnTo>
                  <a:pt x="72" y="956"/>
                </a:lnTo>
                <a:lnTo>
                  <a:pt x="73" y="1001"/>
                </a:lnTo>
                <a:lnTo>
                  <a:pt x="76" y="1044"/>
                </a:lnTo>
                <a:lnTo>
                  <a:pt x="81" y="1084"/>
                </a:lnTo>
                <a:lnTo>
                  <a:pt x="86" y="1126"/>
                </a:lnTo>
                <a:lnTo>
                  <a:pt x="95" y="1169"/>
                </a:lnTo>
                <a:lnTo>
                  <a:pt x="107" y="1215"/>
                </a:lnTo>
                <a:lnTo>
                  <a:pt x="122" y="1262"/>
                </a:lnTo>
                <a:lnTo>
                  <a:pt x="137" y="1306"/>
                </a:lnTo>
                <a:lnTo>
                  <a:pt x="154" y="1349"/>
                </a:lnTo>
                <a:lnTo>
                  <a:pt x="174" y="1391"/>
                </a:lnTo>
                <a:lnTo>
                  <a:pt x="198" y="1431"/>
                </a:lnTo>
                <a:lnTo>
                  <a:pt x="0" y="1543"/>
                </a:lnTo>
                <a:lnTo>
                  <a:pt x="604" y="1633"/>
                </a:lnTo>
                <a:lnTo>
                  <a:pt x="826" y="1076"/>
                </a:lnTo>
                <a:lnTo>
                  <a:pt x="594" y="1201"/>
                </a:lnTo>
                <a:lnTo>
                  <a:pt x="571" y="1165"/>
                </a:lnTo>
                <a:lnTo>
                  <a:pt x="557" y="1133"/>
                </a:lnTo>
                <a:lnTo>
                  <a:pt x="544" y="1100"/>
                </a:lnTo>
                <a:lnTo>
                  <a:pt x="535" y="1067"/>
                </a:lnTo>
                <a:lnTo>
                  <a:pt x="529" y="1035"/>
                </a:lnTo>
                <a:lnTo>
                  <a:pt x="527" y="1004"/>
                </a:lnTo>
                <a:lnTo>
                  <a:pt x="524" y="973"/>
                </a:lnTo>
                <a:lnTo>
                  <a:pt x="524" y="943"/>
                </a:lnTo>
                <a:lnTo>
                  <a:pt x="526" y="906"/>
                </a:lnTo>
                <a:lnTo>
                  <a:pt x="530" y="870"/>
                </a:lnTo>
                <a:lnTo>
                  <a:pt x="538" y="830"/>
                </a:lnTo>
                <a:lnTo>
                  <a:pt x="547" y="798"/>
                </a:lnTo>
                <a:lnTo>
                  <a:pt x="561" y="762"/>
                </a:lnTo>
                <a:lnTo>
                  <a:pt x="573" y="731"/>
                </a:lnTo>
                <a:lnTo>
                  <a:pt x="590" y="701"/>
                </a:lnTo>
                <a:lnTo>
                  <a:pt x="604" y="679"/>
                </a:lnTo>
                <a:lnTo>
                  <a:pt x="618" y="660"/>
                </a:lnTo>
                <a:lnTo>
                  <a:pt x="632" y="641"/>
                </a:lnTo>
                <a:lnTo>
                  <a:pt x="648" y="622"/>
                </a:lnTo>
                <a:lnTo>
                  <a:pt x="665" y="602"/>
                </a:lnTo>
                <a:lnTo>
                  <a:pt x="680" y="588"/>
                </a:lnTo>
                <a:lnTo>
                  <a:pt x="697" y="570"/>
                </a:lnTo>
                <a:lnTo>
                  <a:pt x="714" y="556"/>
                </a:lnTo>
                <a:lnTo>
                  <a:pt x="734" y="541"/>
                </a:lnTo>
                <a:lnTo>
                  <a:pt x="758" y="525"/>
                </a:lnTo>
                <a:lnTo>
                  <a:pt x="778" y="512"/>
                </a:lnTo>
                <a:lnTo>
                  <a:pt x="795" y="502"/>
                </a:lnTo>
                <a:lnTo>
                  <a:pt x="819" y="488"/>
                </a:lnTo>
                <a:lnTo>
                  <a:pt x="843" y="478"/>
                </a:lnTo>
                <a:lnTo>
                  <a:pt x="881" y="467"/>
                </a:lnTo>
                <a:lnTo>
                  <a:pt x="881" y="0"/>
                </a:ln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79720" y="2435400"/>
            <a:ext cx="2082960" cy="2347560"/>
          </a:xfrm>
          <a:custGeom>
            <a:avLst/>
            <a:gdLst/>
            <a:ahLst/>
            <a:rect l="l" t="t" r="r" b="b"/>
            <a:pathLst>
              <a:path w="1312" h="1479">
                <a:moveTo>
                  <a:pt x="500" y="216"/>
                </a:moveTo>
                <a:lnTo>
                  <a:pt x="518" y="219"/>
                </a:lnTo>
                <a:lnTo>
                  <a:pt x="542" y="223"/>
                </a:lnTo>
                <a:lnTo>
                  <a:pt x="565" y="229"/>
                </a:lnTo>
                <a:lnTo>
                  <a:pt x="582" y="233"/>
                </a:lnTo>
                <a:lnTo>
                  <a:pt x="602" y="238"/>
                </a:lnTo>
                <a:lnTo>
                  <a:pt x="621" y="244"/>
                </a:lnTo>
                <a:lnTo>
                  <a:pt x="641" y="250"/>
                </a:lnTo>
                <a:lnTo>
                  <a:pt x="659" y="255"/>
                </a:lnTo>
                <a:lnTo>
                  <a:pt x="680" y="263"/>
                </a:lnTo>
                <a:lnTo>
                  <a:pt x="704" y="273"/>
                </a:lnTo>
                <a:lnTo>
                  <a:pt x="725" y="281"/>
                </a:lnTo>
                <a:lnTo>
                  <a:pt x="745" y="290"/>
                </a:lnTo>
                <a:lnTo>
                  <a:pt x="767" y="300"/>
                </a:lnTo>
                <a:lnTo>
                  <a:pt x="789" y="311"/>
                </a:lnTo>
                <a:lnTo>
                  <a:pt x="809" y="321"/>
                </a:lnTo>
                <a:lnTo>
                  <a:pt x="828" y="333"/>
                </a:lnTo>
                <a:lnTo>
                  <a:pt x="845" y="343"/>
                </a:lnTo>
                <a:lnTo>
                  <a:pt x="862" y="355"/>
                </a:lnTo>
                <a:lnTo>
                  <a:pt x="881" y="366"/>
                </a:lnTo>
                <a:lnTo>
                  <a:pt x="902" y="380"/>
                </a:lnTo>
                <a:lnTo>
                  <a:pt x="921" y="394"/>
                </a:lnTo>
                <a:lnTo>
                  <a:pt x="939" y="408"/>
                </a:lnTo>
                <a:lnTo>
                  <a:pt x="956" y="421"/>
                </a:lnTo>
                <a:lnTo>
                  <a:pt x="983" y="444"/>
                </a:lnTo>
                <a:lnTo>
                  <a:pt x="1011" y="470"/>
                </a:lnTo>
                <a:lnTo>
                  <a:pt x="1033" y="490"/>
                </a:lnTo>
                <a:lnTo>
                  <a:pt x="1059" y="519"/>
                </a:lnTo>
                <a:lnTo>
                  <a:pt x="1077" y="540"/>
                </a:lnTo>
                <a:lnTo>
                  <a:pt x="1097" y="564"/>
                </a:lnTo>
                <a:lnTo>
                  <a:pt x="1119" y="591"/>
                </a:lnTo>
                <a:lnTo>
                  <a:pt x="1137" y="616"/>
                </a:lnTo>
                <a:lnTo>
                  <a:pt x="1155" y="645"/>
                </a:lnTo>
                <a:lnTo>
                  <a:pt x="1174" y="673"/>
                </a:lnTo>
                <a:lnTo>
                  <a:pt x="1190" y="703"/>
                </a:lnTo>
                <a:lnTo>
                  <a:pt x="1205" y="729"/>
                </a:lnTo>
                <a:lnTo>
                  <a:pt x="1220" y="761"/>
                </a:lnTo>
                <a:lnTo>
                  <a:pt x="1234" y="792"/>
                </a:lnTo>
                <a:lnTo>
                  <a:pt x="1246" y="824"/>
                </a:lnTo>
                <a:lnTo>
                  <a:pt x="1258" y="859"/>
                </a:lnTo>
                <a:lnTo>
                  <a:pt x="1273" y="901"/>
                </a:lnTo>
                <a:lnTo>
                  <a:pt x="1283" y="941"/>
                </a:lnTo>
                <a:lnTo>
                  <a:pt x="1293" y="982"/>
                </a:lnTo>
                <a:lnTo>
                  <a:pt x="1298" y="1022"/>
                </a:lnTo>
                <a:lnTo>
                  <a:pt x="1305" y="1069"/>
                </a:lnTo>
                <a:lnTo>
                  <a:pt x="1310" y="1127"/>
                </a:lnTo>
                <a:lnTo>
                  <a:pt x="1311" y="1172"/>
                </a:lnTo>
                <a:lnTo>
                  <a:pt x="1310" y="1217"/>
                </a:lnTo>
                <a:lnTo>
                  <a:pt x="1306" y="1260"/>
                </a:lnTo>
                <a:lnTo>
                  <a:pt x="1301" y="1300"/>
                </a:lnTo>
                <a:lnTo>
                  <a:pt x="1296" y="1342"/>
                </a:lnTo>
                <a:lnTo>
                  <a:pt x="1287" y="1384"/>
                </a:lnTo>
                <a:lnTo>
                  <a:pt x="1275" y="1430"/>
                </a:lnTo>
                <a:lnTo>
                  <a:pt x="1260" y="1478"/>
                </a:lnTo>
                <a:lnTo>
                  <a:pt x="1175" y="1211"/>
                </a:lnTo>
                <a:lnTo>
                  <a:pt x="847" y="1267"/>
                </a:lnTo>
                <a:lnTo>
                  <a:pt x="854" y="1220"/>
                </a:lnTo>
                <a:lnTo>
                  <a:pt x="857" y="1190"/>
                </a:lnTo>
                <a:lnTo>
                  <a:pt x="857" y="1158"/>
                </a:lnTo>
                <a:lnTo>
                  <a:pt x="855" y="1121"/>
                </a:lnTo>
                <a:lnTo>
                  <a:pt x="850" y="1086"/>
                </a:lnTo>
                <a:lnTo>
                  <a:pt x="843" y="1046"/>
                </a:lnTo>
                <a:lnTo>
                  <a:pt x="834" y="1014"/>
                </a:lnTo>
                <a:lnTo>
                  <a:pt x="820" y="978"/>
                </a:lnTo>
                <a:lnTo>
                  <a:pt x="807" y="947"/>
                </a:lnTo>
                <a:lnTo>
                  <a:pt x="791" y="917"/>
                </a:lnTo>
                <a:lnTo>
                  <a:pt x="777" y="894"/>
                </a:lnTo>
                <a:lnTo>
                  <a:pt x="764" y="875"/>
                </a:lnTo>
                <a:lnTo>
                  <a:pt x="750" y="857"/>
                </a:lnTo>
                <a:lnTo>
                  <a:pt x="734" y="838"/>
                </a:lnTo>
                <a:lnTo>
                  <a:pt x="716" y="818"/>
                </a:lnTo>
                <a:lnTo>
                  <a:pt x="701" y="804"/>
                </a:lnTo>
                <a:lnTo>
                  <a:pt x="684" y="787"/>
                </a:lnTo>
                <a:lnTo>
                  <a:pt x="667" y="772"/>
                </a:lnTo>
                <a:lnTo>
                  <a:pt x="647" y="757"/>
                </a:lnTo>
                <a:lnTo>
                  <a:pt x="623" y="742"/>
                </a:lnTo>
                <a:lnTo>
                  <a:pt x="603" y="728"/>
                </a:lnTo>
                <a:lnTo>
                  <a:pt x="586" y="719"/>
                </a:lnTo>
                <a:lnTo>
                  <a:pt x="561" y="704"/>
                </a:lnTo>
                <a:lnTo>
                  <a:pt x="540" y="696"/>
                </a:lnTo>
                <a:lnTo>
                  <a:pt x="521" y="689"/>
                </a:lnTo>
                <a:lnTo>
                  <a:pt x="501" y="682"/>
                </a:lnTo>
                <a:lnTo>
                  <a:pt x="471" y="675"/>
                </a:lnTo>
                <a:lnTo>
                  <a:pt x="443" y="670"/>
                </a:lnTo>
                <a:lnTo>
                  <a:pt x="414" y="667"/>
                </a:lnTo>
                <a:lnTo>
                  <a:pt x="385" y="665"/>
                </a:lnTo>
                <a:lnTo>
                  <a:pt x="369" y="664"/>
                </a:lnTo>
                <a:lnTo>
                  <a:pt x="369" y="904"/>
                </a:lnTo>
                <a:lnTo>
                  <a:pt x="0" y="459"/>
                </a:lnTo>
                <a:lnTo>
                  <a:pt x="368" y="0"/>
                </a:lnTo>
                <a:lnTo>
                  <a:pt x="368" y="206"/>
                </a:lnTo>
                <a:lnTo>
                  <a:pt x="388" y="207"/>
                </a:lnTo>
                <a:lnTo>
                  <a:pt x="417" y="208"/>
                </a:lnTo>
                <a:lnTo>
                  <a:pt x="447" y="210"/>
                </a:lnTo>
                <a:lnTo>
                  <a:pt x="476" y="213"/>
                </a:lnTo>
                <a:lnTo>
                  <a:pt x="500" y="216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0880" y="3095640"/>
            <a:ext cx="1806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Aten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necessidad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dos c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2360" y="3705120"/>
            <a:ext cx="1935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Reforç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pos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24080" y="5076720"/>
            <a:ext cx="155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Maximizar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f0e30"/>
                </a:solidFill>
                <a:latin typeface="Arial"/>
              </a:rPr>
              <a:t>lu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ECISÃO DE PRODUTOS/MERCADORI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242-5107-4564-8EE8-46E32717B46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f0e30"/>
                </a:solidFill>
                <a:latin typeface="Tahoma"/>
              </a:rPr>
              <a:t>DECISÃO DE PRODUTOS/MERCADORI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4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ATÉGIAS DE DIFERENCIAÇÃO DE PRODUTOS PARA OS VAREJIST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ferecer algumas marcas exclusivas que não estejam disponíveis nas lojas dos concorr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ferecer a maior parte dos produtos com marca próp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alizar eventos de impacto para promover produtos especia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dar o mostruário em base regular ou de surpresa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ibir as novidades em primeira mão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ferecer serviços personalizados adequados ao prod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-174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ferecer um sortimento de produtos bem ajustado a um segmento de mercado especí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18320" indent="-139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O papel do comprador/ a política de compras é  fator determinante  na  competitividade do varej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18320" indent="-139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Os fabricantes estão enfrentando compradores/varejistas cada vez mais sofisticados e exig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240"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066680" y="304812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1066680" y="335268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066680" y="365760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FA6-5CB6-459C-9EF6-8C792F10C5C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115000"/>
              </a:lnSpc>
              <a:spcBef>
                <a:spcPts val="451"/>
              </a:spcBef>
              <a:spcAft>
                <a:spcPts val="1239"/>
              </a:spcAft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“</a:t>
            </a: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o processo de compra de produtos em quantidade relativamente grande dos produtores atacadistas e outros fornecedores e posterior venda em quantidades menores ao consumidor final” (HENRY RICH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lnSpc>
                <a:spcPct val="115000"/>
              </a:lnSpc>
              <a:spcBef>
                <a:spcPts val="451"/>
              </a:spcBef>
              <a:spcAft>
                <a:spcPts val="1239"/>
              </a:spcAft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“</a:t>
            </a: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unidade de negócio que compra mercadorias de fabricantes, atacadistas e outros distribuidores e vende diretamente a consumidores finais e eventualmente aos outros consumidores” (A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lnSpc>
                <a:spcPct val="115000"/>
              </a:lnSpc>
              <a:spcBef>
                <a:spcPts val="451"/>
              </a:spcBef>
              <a:spcAft>
                <a:spcPts val="1239"/>
              </a:spcAft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“</a:t>
            </a: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é a atividade comercial responsável por providenciar mercadorias e serviços desejados pelos consumidores” (SPOHN E ALLEN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5680" indent="-265680">
              <a:lnSpc>
                <a:spcPct val="115000"/>
              </a:lnSpc>
              <a:spcBef>
                <a:spcPts val="451"/>
              </a:spcBef>
              <a:spcAft>
                <a:spcPts val="1239"/>
              </a:spcAft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“</a:t>
            </a:r>
            <a:r>
              <a:rPr b="0" lang="pt-BR" sz="1800" spc="-1" strike="noStrike">
                <a:solidFill>
                  <a:srgbClr val="ff9966"/>
                </a:solidFill>
                <a:latin typeface="Arial Black"/>
              </a:rPr>
              <a:t>todas as atividades envolvidas na venda de bens e serviços diretamente aos consumidores finais para uso pessoal” (PHILIP KOTL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837720" y="-7668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8f8f8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DEFINIÇÕES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9F5-B25D-4832-9EF6-D8D28FECF47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f0e30"/>
                </a:solidFill>
                <a:latin typeface="Tahoma"/>
              </a:rPr>
              <a:t>DECISÃO DE SERVIÇ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OS SEVIÇOS REPRESENTAM  A BASE DA DIFERENCIAÇÃO E ESTABELECEM UMA POSIÇÃO COMPETITIVA AO VAREJ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VALOR AGREG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DISPONIBILIDADE DE PAGAM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INSTALAÇÃ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ENTREG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RESERVA DE MERCAD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VENDEDORES ESPECIALIZ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MAIOR HORÁRIO DE FUNCIONAM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LOCALIZ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ESTACIONAMENTO CONVEN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GRANDES ESTOQU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ESPECIALIZ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56960" indent="0" algn="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676760" cy="102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CBB-8E0E-429B-8659-EB05207226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483240" y="2978280"/>
            <a:ext cx="120672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8840" y="2978280"/>
            <a:ext cx="90180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83040" y="2978280"/>
            <a:ext cx="67320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9160" y="2978280"/>
            <a:ext cx="151128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63880" y="2978280"/>
            <a:ext cx="128268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6840" y="2978280"/>
            <a:ext cx="1054080" cy="1054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83240" y="2597040"/>
            <a:ext cx="120672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83040" y="2597040"/>
            <a:ext cx="158760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9160" y="2597040"/>
            <a:ext cx="151128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3880" y="2597040"/>
            <a:ext cx="128268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6840" y="2597040"/>
            <a:ext cx="105408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763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12952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ESTRATÉGIAS DE PRODU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clo de Vida do Produ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stágios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Introdução     Crescimento     Maturidade           Declí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nsumi-   Inovadores     Adotantes       Ado-    Maioria      Retar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ores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Imediatos        tantes                     tá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os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iores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urva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as Ven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63880" y="4038480"/>
            <a:ext cx="562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9782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9782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9782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29782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65320" y="2979720"/>
            <a:ext cx="562572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06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06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65680" y="2979720"/>
            <a:ext cx="56253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4" y="0"/>
                </a:moveTo>
                <a:arcTo wR="10800" hR="10800" stAng="-5401940" swAng="5401940"/>
                <a:lnTo>
                  <a:pt x="10800" y="10800"/>
                </a:lnTo>
                <a:close/>
              </a:path>
              <a:path fill="none" w="21600" h="21600">
                <a:moveTo>
                  <a:pt x="10794" y="0"/>
                </a:moveTo>
                <a:arcTo wR="10800" hR="10800" stAng="-5401940" swAng="540194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20880" y="5105520"/>
            <a:ext cx="29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7080" y="5105520"/>
            <a:ext cx="29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F5D-D31F-4C1F-ABC6-5491C48B3BE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57320" y="1900080"/>
            <a:ext cx="5219640" cy="3657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2819520" cy="27432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4470480" y="3089160"/>
            <a:ext cx="2644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f0e30"/>
                </a:solidFill>
                <a:latin typeface="Arial"/>
              </a:rPr>
              <a:t>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831-2481-487B-BB60-09D423F13B9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48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Tahoma"/>
              </a:rPr>
              <a:t>A PROPÓSITO: Você conhece o seu consumid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8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(uma dúzia de boas razões para conhecer seu 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Você “fala” com ele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Você o observa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Você sabe onde ele mora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 Você sabe o que ele faz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. Você sabe o que e de quem ele consome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6. Você conhece suas necessidade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7. Você conhece seus anseio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8. Você conhece os lugares que ele frequenta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9. Você conhece seu comportamento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0. Você sabe o que ele lê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1. Você sabe qual é o seu hobby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2. Você sabe sobre sua “vida”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83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334-BC9D-489B-9579-A829A0D7CDE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2076480" cy="15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1706760" cy="1417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90720" y="12952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ESTRATÉGIAS DE PREÇO NO VAREJ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eterminação de Preço na Prática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IENTADA PARA CUSTO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IENTADA PARA A DEMANDA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                         (valor percebido pelo cl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IENTADA PARA A CONCORRÊNC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043000" cy="183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838-902C-4F22-9911-DA41757884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2214360" cy="1404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809880" y="3352680"/>
            <a:ext cx="1524240" cy="685800"/>
          </a:xfrm>
          <a:prstGeom prst="rect">
            <a:avLst/>
          </a:prstGeom>
          <a:solidFill>
            <a:srgbClr val="51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c0128"/>
                </a:solidFill>
                <a:latin typeface="Tahoma"/>
              </a:rPr>
              <a:t>PRINCIPAIS FATORES DE INFLUÊNCIA NAS DECISÕES DE PREÇO NO VAREJ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eti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deraçõ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ciais e leg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acto sob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ros prod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s 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dministraçã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preç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4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719880" y="3332160"/>
            <a:ext cx="1856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ISÕ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PREÇ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245124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559400" y="2755800"/>
            <a:ext cx="17784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32320" y="2755800"/>
            <a:ext cx="12708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06760" y="4813200"/>
            <a:ext cx="17784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84600" y="4813200"/>
            <a:ext cx="12708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813200"/>
            <a:ext cx="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54240" y="3206880"/>
            <a:ext cx="4446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73760" y="4273560"/>
            <a:ext cx="4446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505320" y="319356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0240" y="3359160"/>
            <a:ext cx="24120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3760" y="4273560"/>
            <a:ext cx="6336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873760" y="4184280"/>
            <a:ext cx="13968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30560" y="4336560"/>
            <a:ext cx="291960" cy="2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873760" y="3041640"/>
            <a:ext cx="368280" cy="241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73760" y="32767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873760" y="3117960"/>
            <a:ext cx="63360" cy="16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69880" y="4343400"/>
            <a:ext cx="16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43498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32D-DD4B-48FF-AA0D-52668ABB63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510000" cy="1938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ESTRATÉGIAS DE PREÇO NO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eterminação de Preç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Quais são os objetivos da empresa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DESNA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reço alto / demanda é insensível ao preç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PENETRAÇÃ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reço baixo com grandes volumes de venda / demanda deve ser elást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PRONTA RECUPERAÇÃO DE CAIX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roblemas financeir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VENDAS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crescimento de vendas</a:t>
            </a: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LUCROS 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ximização dos lucros ) </a:t>
            </a: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PROMOÇÃO DE LINHA DE PRODUTO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rabalhar a linha tod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c0128"/>
                </a:solidFill>
                <a:latin typeface="Arial"/>
              </a:rPr>
              <a:t>CONCORRÊNCI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nfrentar ou prevenir a concorrênci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851-2668-42F2-A0AE-8439F6276F0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180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c0128"/>
                </a:solidFill>
                <a:latin typeface="Tahoma"/>
              </a:rPr>
              <a:t>ESTRATÉGIAS DE PREÇO NO VAREJ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RUPO DE MARK UP ELEVADO E DE VOLUME BAIX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lojas de especialidade (agregar val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RUPO DE MARK UP BAIXO E DE VOLUME + AL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lojas de venda em ma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8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00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714-DC82-43E6-A28A-BC570F13885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c0128"/>
                </a:solidFill>
                <a:latin typeface="Tahoma"/>
              </a:rPr>
              <a:t>ESTRATÉGIAS DE PREÇO NO VAREJ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U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PONIBILIDADE   =    PREÇO     =     CUSTOS    +    MARK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O CLIENTE           PRODUTO       DESPE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8000"/>
                </a:solidFill>
                <a:latin typeface="Wingdings"/>
                <a:ea typeface="Wingdings"/>
              </a:rPr>
              <a:t></a:t>
            </a:r>
            <a:r>
              <a:rPr b="0" lang="pt-BR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</a:t>
            </a:r>
            <a:r>
              <a:rPr b="0" lang="pt-BR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</a:t>
            </a:r>
            <a:r>
              <a:rPr b="0" lang="pt-BR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</a:t>
            </a:r>
            <a:r>
              <a:rPr b="0" lang="pt-BR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</a:t>
            </a:r>
            <a:r>
              <a:rPr b="0" lang="pt-BR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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uanto o cliente                                                           passível               nem sempre é passí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stá disposto a                                                        de variações,             vel de  variaçõ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agar pelo produto                                               reduções/aumento       dependerá  dos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objetivos  da empresa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8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996840" y="2825640"/>
            <a:ext cx="699768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0F0-BA80-4069-AE34-66E2190D4BE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359160" y="1987560"/>
            <a:ext cx="2654280" cy="444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28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29528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ESTRATÉGIAS DE COMUNICAÇÃO NO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ÚBLICO ALV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SUMIDOR ALVO (TARGET) - A quem devo vender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LVO DE COMUNICAÇÃO - Público a quem devo levar a mensagem (mais abrangente -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pinion mak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378160" y="4495680"/>
            <a:ext cx="470844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A7B-8E3B-4238-85A7-903251EE24B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8f8f8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HISTÓRIA DO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O comércio data da antiguidade. Atenas, Alexandria e Roma - grandes áreas comercia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Gregos antigos - grandes comerci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Conceito negativo dos comerci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“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toda a comercialização varejista pode ser descrita como desonesta porque o negociante só poderá ganhar alguma coisa com mentiras e nada é mais desanimador do que um vendedor desonesto.” (Cícero - escritor roman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Influência dos EUA e Inglater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No Brasil: 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Casa Masson (1871)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Lojas Pernambucanas (1906)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Mesbla (19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5286240"/>
            <a:ext cx="2362320" cy="11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2EA-6B04-4D67-92F8-E2CAA96CB3F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Arial"/>
              </a:rPr>
              <a:t>ESTRATÉGIAS DE COMUNICAÇÃO NO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STO DE COMUN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PAG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Forma paga e não pessoal de divulgação de idéias ou produtos, identificada pelo patrocinado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ENDA PESS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rocesso de comunicação “face-a-face”, em que o vendedor procura assistir o consumidor no atendimento de suas neces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UBLI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stímulo impessoal da procura para um produto, serviço ou negócio, pela divulgação de notícias comercialmente significativas (editoriais), na mídia impressa ou eletrônica e que não seja pago pelo patrocinado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MOÇÃO DE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tividades que estimulam as compras dos consumidores e a eficácia dos revendedores. (displays, shows, eventos, desfiles, visual merchandising.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ATABASE MARKETING (D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leta, processamento e utilização das informações de marketing para criar um relacionamento com o consumidor, otimizando seus negócios com a empre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DD6-A7C8-4429-AFB5-F2B2EC07AF0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066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c0128"/>
                </a:solidFill>
                <a:latin typeface="Arial"/>
              </a:rPr>
              <a:t>ESTRATÉGIAS DE COMUNICAÇÃO NO VAREJ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MO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N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SO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DE RELACIO-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92680" y="3359160"/>
            <a:ext cx="1511280" cy="36828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1581120" cy="223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990720" y="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8960" y="3286080"/>
            <a:ext cx="1639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245124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559400" y="2755800"/>
            <a:ext cx="17784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32320" y="2755800"/>
            <a:ext cx="127080" cy="1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54240" y="3511440"/>
            <a:ext cx="4446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73760" y="4273560"/>
            <a:ext cx="4446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270240" y="3664080"/>
            <a:ext cx="24120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73760" y="4273560"/>
            <a:ext cx="6336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873760" y="4184280"/>
            <a:ext cx="13968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130560" y="4336560"/>
            <a:ext cx="291960" cy="2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873760" y="3041640"/>
            <a:ext cx="368280" cy="241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3760" y="32767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873760" y="3117960"/>
            <a:ext cx="63360" cy="16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269880" y="4343400"/>
            <a:ext cx="16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29000" y="434988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346560" y="349848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16A-16E9-41E7-881A-ECEAC64384E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c0128"/>
                </a:solidFill>
                <a:latin typeface="Tahoma"/>
              </a:rPr>
              <a:t>PROCESSO DECISÓRIO DO MIX COMUNICAÇÃO NO VAREJ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" indent="-182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DO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ipo do consumidor (processo de comp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siderações Geográf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corrê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-182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DO PRODUTO/VAR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tegoria do produto (compra comparada/uso especial/conveniênc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ágio do ciclo de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-182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DA EMPR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undos disponí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osta de visibilidad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82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C7A-5DD1-4D3B-ABF9-DC1BD9A5126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65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c0128"/>
                </a:solidFill>
                <a:latin typeface="Tahoma"/>
              </a:rPr>
              <a:t>OBJETIVOS DE COMUNICAÇÃO NO VAREJ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binação dos objetivos do marketing mix da empresa e das metas específicas para a comunic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NCIP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TIMULAR DEMANDA 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FORMAR OS VALORES OFEREC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UTROS EXEMP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imular o uso experim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tráfego de lo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tamanho do pedido/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a frequência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2063880" y="2978280"/>
            <a:ext cx="4787640" cy="67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A0C-3616-4286-8BE4-B2D3845319D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65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c0128"/>
                </a:solidFill>
                <a:latin typeface="Tahoma"/>
              </a:rPr>
              <a:t>CAMPANHAS PROMOCIONAIS NO VAR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QUE DEVE SER EVI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ALHAS NA DETERMINAÇÃO DE SEGMENTOS ESPECÍF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ensagem confusa, sem direciona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úblico-alvo não entende a mensagem e não se sente estimulado a compr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ALHAS NA DETERMINAÇÃO DOS OBJE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panha sem direcionamento torna-se confu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ão há escolha adequada dos meios de comunic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ensagem não será bem-codificada, ocorrendo riscos de não ser entendi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erba desperdiç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RÇAMENTOS INSUFICI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cursos insuficiente, prejudicando as condições de execução da campanha, consequentemente alterando os resultados esper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-165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ALHAS TÉCNICAS NA ELABORAÇÃO DO MATE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rros de impressão, erros de português, erros nas cores....imagem negativa da empre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56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001-02D4-4E1B-892E-543DB16B6EB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09480" y="4195800"/>
            <a:ext cx="1219320" cy="2205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c0128"/>
                </a:solidFill>
                <a:latin typeface="Tahoma"/>
              </a:rPr>
              <a:t>CAMPANHAS PROMOCIONAIS NO VAR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LEMENTOS BÁSIC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POSICIONAMENTO DO PROD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OBJETIVOS DA CAMPAN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TEÚDO BÁSICO DA MENSA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ÇÕES E MÍDIAS A SEREM DESENVOLV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ESENVOLVIMENTO DAS AÇÕES/PEÇ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CONTROLE E AVALIAÇÃO DOS RESUL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42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162920" y="2290680"/>
            <a:ext cx="121896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9DA-FA2E-4331-80F9-A4C5816C1C1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86080" y="97164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ATMOSFERA DA LO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VOLV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MB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ECOR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AYOUT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FÍSICO (FACILITA OU DIFICUL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 MOVIMENTAÇÃO DOS CONSUMIDOR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ISUAL DOS VEND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ÚSICA AMB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STÍMULOS VISUAI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ONOROS E OLFATIV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TMOSFERA PLANEJADA, AJUSTADA AO MERCADO-ALVO. CONQUISTANDO-O E SURPREENDENDO SUAS EXPECTATIV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uciane rob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keting de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606760" y="4191120"/>
            <a:ext cx="4460760" cy="1143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90400" y="171360"/>
            <a:ext cx="79441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f0e30"/>
                </a:solidFill>
                <a:latin typeface="Arial"/>
              </a:rPr>
              <a:t>DECISÕES DE COMUNICAÇÃO NO VAREJO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83B-1E0A-42EB-B268-D21724A1B91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f0e30"/>
                </a:solidFill>
                <a:latin typeface="Tahoma"/>
              </a:rPr>
              <a:t>DECISÕES DE COMUNICAÇÃO NO VAREJO</a:t>
            </a:r>
            <a:r>
              <a:rPr b="0" lang="pt-BR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NDA PESS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40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luciane rob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keting de vare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71600" y="2362320"/>
            <a:ext cx="5500800" cy="3504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82880" y="522936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APROXI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176040" y="4695840"/>
            <a:ext cx="294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NECESS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24960" y="4162320"/>
            <a:ext cx="414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  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APRESENT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2360" y="3629160"/>
            <a:ext cx="298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OBJE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03360" y="3171960"/>
            <a:ext cx="33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FECH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638440"/>
            <a:ext cx="2885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SUGEST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85440" y="2181240"/>
            <a:ext cx="29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A15-D139-4065-A0FC-84F684E4D088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TEORIAS DE EVOLUÇÃO E MUDANÇA DO VARE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Conceitos para entendimento da dinâmica do varejo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A RODA DO VAREJO</a:t>
            </a: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 (Malcolm Mc Nair - anos 5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 algn="just">
              <a:spcBef>
                <a:spcPts val="400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Novos concorrentes varejistas estão sempre entrando no mercado, oferecendo preços mais baixos em função de baixos custos operacionais (instalações mais simple e menos serviç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 algn="just">
              <a:spcBef>
                <a:spcPts val="400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Conforme o varejista de baixo custo prospera, mais concorrentes entram no mercad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-254160" algn="just">
              <a:spcBef>
                <a:spcPts val="400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Para obter vantagem competitiva, serviços são acrescentados, os preços sobem e a “roda” gira, deixando espaço para a entrada de novos varejist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Varejo/lojas que não se aplica a ess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conceito: máquinas automáticas, catálogos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lojas de conveniência (operação de custos 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66"/>
                </a:solidFill>
                <a:latin typeface="Tahoma"/>
              </a:rPr>
              <a:t>de  margem alto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41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4717800"/>
            <a:ext cx="0" cy="9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5257800"/>
            <a:ext cx="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4883040"/>
            <a:ext cx="1359000" cy="128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7440" y="4883040"/>
            <a:ext cx="1434960" cy="128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4724280"/>
            <a:ext cx="6372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848360" y="4724280"/>
            <a:ext cx="8892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B1F-38CF-4C0B-95D6-5AAA0A5789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5680" y="4952880"/>
            <a:ext cx="1676520" cy="1505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TEORIAS DE EVOLUÇÃO E MUDANÇA DO VARE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AREJO SANFON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-208440">
              <a:spcBef>
                <a:spcPts val="499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Varejistas começam com um sortimento de mercadorias bem geral, e, gradualmente se especializam e depois voltam  para a generalidade maior - efeito sanfona: </a:t>
            </a:r>
            <a:r>
              <a:rPr b="1" i="1" lang="pt-BR" sz="2000" spc="-1" strike="noStrike">
                <a:solidFill>
                  <a:srgbClr val="ff9966"/>
                </a:solidFill>
                <a:latin typeface="Tahoma"/>
              </a:rPr>
              <a:t>geral - específico - ge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-208440">
              <a:spcBef>
                <a:spcPts val="499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No início do século XX as lojas ofereciam grande variedade de artigos. Com o passar do tempo as lojas foram se especializan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-208440">
              <a:spcBef>
                <a:spcPts val="499"/>
              </a:spcBef>
              <a:buClr>
                <a:srgbClr val="ff99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Tahoma"/>
              </a:rPr>
              <a:t>Atualmente encontramos lojas altamente especializadas e ao mesmo tempo lojas com sortimento geral de produtos (polaridade do varej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084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084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Profa. Luciane Robi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05120" y="5091120"/>
            <a:ext cx="1290600" cy="1233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091280" y="5091120"/>
            <a:ext cx="1290600" cy="12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F39-C721-4F21-B511-C170D53B98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TEORIAS DE EVOLUÇÃO E MUDANÇA DO VARE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66"/>
                </a:solidFill>
                <a:latin typeface="Tahoma"/>
              </a:rPr>
              <a:t>CICLO DE VIDA DO VAR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1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cura identificar a rapidez com que ocorrem as mudanças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ritmo de inovação no varejo se acelera com o t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-211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INOVAÇÃO: Pode ser centrada no custos, nos métodos operacionais, no sortimento de produto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-211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SENVOLVIMENTO ACELERADO: crescimento das vendas e lucros originários da nova forma. Conhecido pela expansão geográfica e concorrentes que imita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-211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ATURIDADE: mais importante estágio do CVV, devido a concorrência. É o estágio mais desafiador. Os lucros começa a declin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-2113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CLÍNIO: pode ser evitado ou retardado pelo reposicionamento e pela adaptação dos concorrentes no 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Profa. Luciane Robi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1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E06-B6CA-49A1-A660-98618A8925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TENDÊNCIAS DO VARE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66"/>
                </a:solidFill>
                <a:latin typeface="Tahoma"/>
              </a:rPr>
              <a:t>DUAS VARIÁVEIS FUNDAMENTA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-1911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PLICAÇÃO DA TECN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-1911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NSOLIDAÇÃO DO VARE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9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Profa. Luciane Robi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3047760" cy="17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D59-F68F-4AFB-8607-EF5A9D8914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TENDÊNCIAS DO VAR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905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PLICAÇÃO DA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800" y="2514600"/>
            <a:ext cx="80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algumas são invisíveis para o consumidor: cent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automatizados de distribuição e sistema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reposição de estoque via saté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400" y="3811680"/>
            <a:ext cx="781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outras já fazem parte da experiência de compr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tecnologias de informática e comunic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720" y="4834080"/>
            <a:ext cx="73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compras por computado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f8f8f8"/>
                </a:solidFill>
                <a:latin typeface="Tahoma"/>
              </a:rPr>
              <a:t>(facilidade/comodidade x prazer de sair/la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F8C-9B9B-4AFE-BC02-0C060912A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33:52Z</dcterms:created>
  <dc:creator>FACTU</dc:creator>
  <dc:description/>
  <dc:language>en-US</dc:language>
  <cp:lastModifiedBy>FACTU</cp:lastModifiedBy>
  <dcterms:modified xsi:type="dcterms:W3CDTF">1999-06-25T22:29:33Z</dcterms:modified>
  <cp:revision>8</cp:revision>
  <dc:subject/>
  <dc:title>Slide sem título </dc:title>
</cp:coreProperties>
</file>